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3153-05E9-4894-BBAA-5E083E8C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0FE-ABED-466D-9D01-1D0DCDD8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8E6-5F67-427E-BC19-047C501F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2D4F-D11C-4755-8064-1922F67F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08F2-2B90-474E-94BF-BC25E590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63B-8D7A-417A-AAD5-1698BACD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1D47-4139-4EE8-8812-A4A97424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A4EE-4454-4605-8CD1-D1E43A6B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49B1-E5FB-4004-A734-2F8CA61E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99CA-2E4F-454E-93DB-980316B2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C054-6722-4B31-9E54-19D323C1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C033-9690-445D-A492-48283DE9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nformationssysteme SS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14-</a:t>
            </a:r>
            <a:fld id="{ACECE165-70CB-47DD-818B-ED908C4ADAFC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28600"/>
            <a:ext cx="8534160" cy="1066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Kapitel 14: Datenspeicherung, Indexstrukturen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und Anfrageausfüh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3440" y="1523880"/>
            <a:ext cx="60375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14.1 Wie Daten gespeicher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14.2 Wie auf Daten effizient zugegriffen wi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Indexstruktu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14.3 Wie Anfragen ausgeführ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BCA5-298D-4E18-A758-F0826F87E9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*-Bäume: Seitenstrukturierte Mehrwegbä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6400" y="1036800"/>
            <a:ext cx="892800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ohler Mehrwegebaum mit hohem Fanout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kleiner Tief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noten = Seite auf Pla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noteninha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Sohnzeiger, Schlüssel)-Paare in inneren Kno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lüssel (mit weiteren Daten) in Blä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erfekt balanciert: alle Blätter haben dieselbe Distanz zur Wurz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ucheffizienz O(log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n/C) Seitenzugriffe (Platten-I/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n Schlüsseln, Seitenkapazität C und Fanout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o Baumniveau: bestimme kleinsten Schlüssel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q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uche weiter im Teilbaum links von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sten einer Einfüge- oder Löschoperation O(log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n/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tlere Speicherplatzauslastung bei zufälligem Einfügen: ln 2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0.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CD8C-2487-4631-81B8-FD234128E6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*-Baum-Beisp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57200" y="1143000"/>
            <a:ext cx="8229600" cy="3340080"/>
            <a:chOff x="457200" y="1143000"/>
            <a:chExt cx="8229600" cy="3340080"/>
          </a:xfrm>
        </p:grpSpPr>
        <p:sp>
          <p:nvSpPr>
            <p:cNvPr id="392" name=""/>
            <p:cNvSpPr/>
            <p:nvPr/>
          </p:nvSpPr>
          <p:spPr>
            <a:xfrm>
              <a:off x="457200" y="3048120"/>
              <a:ext cx="8229600" cy="1066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7200" y="1143000"/>
              <a:ext cx="8229600" cy="1905120"/>
            </a:xfrm>
            <a:prstGeom prst="triangle">
              <a:avLst>
                <a:gd name="adj" fmla="val 50000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95280" y="304812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96360" y="3124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d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28800" y="304812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62320" y="3048120"/>
              <a:ext cx="53316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95480" y="304812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05120" y="31240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05320" y="3048120"/>
              <a:ext cx="53316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82360" y="3124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38480" y="304812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72000" y="304812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05520" y="3048120"/>
              <a:ext cx="53316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95280" y="3048120"/>
              <a:ext cx="213372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92200" y="312408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048120"/>
              <a:ext cx="213336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15000" y="304812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16080" y="31240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48520" y="3048120"/>
              <a:ext cx="53316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81680" y="304812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15200" y="304812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24480" y="3124080"/>
              <a:ext cx="50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048120"/>
              <a:ext cx="213372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39000" y="312408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o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34320" y="3124080"/>
              <a:ext cx="40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92240" y="312408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05320" y="1752480"/>
              <a:ext cx="53316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82000" y="182880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o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38480" y="1752480"/>
              <a:ext cx="5335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72000" y="1752480"/>
              <a:ext cx="5335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105520" y="1752480"/>
              <a:ext cx="53316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91120" y="1828800"/>
              <a:ext cx="50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05320" y="1752480"/>
              <a:ext cx="2133360" cy="533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63600" y="137160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ot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785480" y="3772080"/>
              <a:ext cx="12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eaf No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2362320" y="1981080"/>
              <a:ext cx="121896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91120" y="1981080"/>
              <a:ext cx="38088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648320" y="1981080"/>
              <a:ext cx="213336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66880" y="34290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23880" y="34290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57400" y="3429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3580920" y="34290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43400" y="3429000"/>
              <a:ext cx="763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43600" y="34290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6476760" y="3429000"/>
              <a:ext cx="759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86600" y="3429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467480" y="3429000"/>
              <a:ext cx="763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68840" y="411480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I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25520" y="251460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+-tr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9A4-57A0-4EE9-8A5B-28D67B4F95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*-Baum-Beispiel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286000"/>
            <a:ext cx="9144000" cy="2100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533520"/>
            <a:ext cx="9144000" cy="17524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320" y="350532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20" y="358920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a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350532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143000" y="3513240"/>
            <a:ext cx="533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76520" y="350532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840" y="358920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rl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86000" y="350532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210400" y="35812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rfu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19520" y="350532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6320" y="3505320"/>
            <a:ext cx="2133360" cy="58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20600" y="358920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0" y="3505320"/>
            <a:ext cx="2133720" cy="58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724280" y="34974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358128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öl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257800" y="34974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349740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324480" y="34974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81480" y="3581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in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724280" y="3497400"/>
            <a:ext cx="2133720" cy="58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43720" y="35892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16080" y="358128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z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581280" y="83196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57960" y="91440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14800" y="83196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83196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81480" y="83196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81280" y="831960"/>
            <a:ext cx="2133720" cy="58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362320" y="1289160"/>
            <a:ext cx="129528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67080" y="1289160"/>
            <a:ext cx="114300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98240" y="26701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*-Ba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948360" y="34974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934680" y="35812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81880" y="34974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15400" y="349740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548560" y="34974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391520" y="3429000"/>
            <a:ext cx="82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ar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rüc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948360" y="3497400"/>
            <a:ext cx="2133720" cy="58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78760" y="35812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626320" y="35812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l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228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492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6668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97180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2408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27672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44792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4360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8660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23888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39152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62012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69608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77240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84872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92468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8640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63868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54920" y="4419720"/>
            <a:ext cx="264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cord IDs oder doc 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6212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91440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22960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38188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83908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51460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588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24852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761000" y="3886200"/>
            <a:ext cx="457200" cy="609480"/>
            <a:chOff x="4761000" y="3886200"/>
            <a:chExt cx="457200" cy="609480"/>
          </a:xfrm>
        </p:grpSpPr>
        <p:sp>
          <p:nvSpPr>
            <p:cNvPr id="511" name=""/>
            <p:cNvSpPr/>
            <p:nvPr/>
          </p:nvSpPr>
          <p:spPr>
            <a:xfrm>
              <a:off x="4913640" y="3886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65920" y="3886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18200" y="3886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61000" y="3886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3276720" y="274320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76720" y="2743200"/>
            <a:ext cx="71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ank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u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09880" y="27432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43400" y="27432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876920" y="274320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10240" y="282744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276720" y="2743200"/>
            <a:ext cx="2133360" cy="58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38480" y="312408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91120" y="312408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05320" y="313200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352680" y="350532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86200" y="350532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295280" y="18288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96000" y="1905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828800" y="18288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362320" y="182880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95480" y="18288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828800" y="190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95280" y="1828800"/>
            <a:ext cx="2133720" cy="58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410080" y="18288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5200" y="190512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z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43600" y="18288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182880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010280" y="18288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10080" y="1828800"/>
            <a:ext cx="2133720" cy="58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609120" y="2286000"/>
            <a:ext cx="7621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981080" y="2286000"/>
            <a:ext cx="83844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14600" y="22860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562720" y="2286000"/>
            <a:ext cx="2286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19920" y="2286000"/>
            <a:ext cx="19810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057400" y="1600200"/>
            <a:ext cx="5105520" cy="0"/>
          </a:xfrm>
          <a:prstGeom prst="line">
            <a:avLst/>
          </a:prstGeom>
          <a:ln w="381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228600" y="2590560"/>
            <a:ext cx="8458200" cy="75960"/>
          </a:xfrm>
          <a:prstGeom prst="line">
            <a:avLst/>
          </a:prstGeom>
          <a:ln w="381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365E-04E4-4394-B7A4-74D62968C6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*-Baum-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34720" y="762120"/>
            <a:ext cx="903492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 Mehrwegbaum heißt B*-Baum der Ordnung (m, m*), wenn gi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eder Nichtblattknoten außer der Wurzel enthält mindeste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 und höchstens 2m Schlüssel (Wegweis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 Nichtblattknoten mit k Schlüssel x1, ..., xk hat genau k+1 Söh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, ..., t(k+1), so da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alle Schlüssel s im Teilbaum ti (2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) gilt x(i-1) &lt; s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xi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alle Schlüssel s im Teilbaum t1 gilt s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x1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alle Schlüssel im Teilbaum t(k+1) gilt xk &lt;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le Blätter haben dasselbe Niveau (Distanz von der Wurz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edes Blatt enthält mindestens m*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 und höchstens 2m* Schlüss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95560" y="6019920"/>
            <a:ext cx="81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derfall m=m*=1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-3-Bäu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 Hauptspeicherdatenstru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97360" y="5181480"/>
            <a:ext cx="8378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tung: Implementierungen verwend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iabel lange Schlüs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 eine Knotenkapazität in Bytes statt Konstanten 2m und 2m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028-B73D-45DF-BE1D-248DEEEB6A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seudocode für B*-Baum-Su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2560" y="990720"/>
            <a:ext cx="73634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uchen von Schlüssel s in B*-Baum mit Wurzel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 habe k Schlüssel x1, ..., xk und k+1 Söhne t1, ..., t(k+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letzteres sofern t kein Blatt 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timme den kleinsten Schlüssel xi, so daß s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f s = xi (für ein i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k) und t ist ein Bl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n Schlüssel gefun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f t ist kein Blatt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f s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xi (für ein i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k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n suche s im Teilbaum 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lse suche s im Teilbaum t(k+1)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lse Schlüssel s ist nicht vorhande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9B28-E4F8-4824-99AA-37413484E1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*-Baum-Such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2286000"/>
            <a:ext cx="9144000" cy="2100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533520"/>
            <a:ext cx="9144000" cy="17524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6320" y="350532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20" y="358920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a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09480" y="350532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143000" y="3513240"/>
            <a:ext cx="533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350532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9840" y="358920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rl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350532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210400" y="35812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rfu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819520" y="350532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320" y="3505320"/>
            <a:ext cx="2133360" cy="58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20600" y="358920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0" y="3505320"/>
            <a:ext cx="2133720" cy="58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724280" y="34974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724280" y="358128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öl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257800" y="34974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791320" y="349740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24480" y="34974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181480" y="3581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in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724280" y="3497400"/>
            <a:ext cx="2133720" cy="58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143720" y="35892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16080" y="358128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z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581280" y="83196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57960" y="91440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114800" y="83196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648320" y="83196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181480" y="83196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1280" y="831960"/>
            <a:ext cx="2133720" cy="58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362320" y="1289160"/>
            <a:ext cx="129528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267080" y="1289160"/>
            <a:ext cx="114300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698240" y="26701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*-Ba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34974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934680" y="35812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481880" y="34974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015400" y="349740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548560" y="34974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91520" y="3429000"/>
            <a:ext cx="82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ar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rüc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948360" y="3497400"/>
            <a:ext cx="2133720" cy="58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078760" y="35812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626320" y="35812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l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5228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0492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06668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7180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7672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44792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4360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08660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23888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39152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62012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9608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77240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84872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92468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8640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63868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6212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22960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38188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83908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1460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9588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24852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4761000" y="3886200"/>
            <a:ext cx="457200" cy="609480"/>
            <a:chOff x="4761000" y="3886200"/>
            <a:chExt cx="457200" cy="609480"/>
          </a:xfrm>
        </p:grpSpPr>
        <p:sp>
          <p:nvSpPr>
            <p:cNvPr id="622" name=""/>
            <p:cNvSpPr/>
            <p:nvPr/>
          </p:nvSpPr>
          <p:spPr>
            <a:xfrm>
              <a:off x="4913640" y="3886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065920" y="3886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218200" y="3886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61000" y="3886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3276720" y="274320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76720" y="2743200"/>
            <a:ext cx="71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ank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u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09880" y="27432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43400" y="27432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76920" y="274320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810240" y="282744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76720" y="2743200"/>
            <a:ext cx="2133360" cy="58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038480" y="312408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91120" y="312408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505320" y="313200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52680" y="350532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86200" y="350532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295280" y="18288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6000" y="1905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828800" y="18288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62320" y="182880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895480" y="18288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828800" y="190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295280" y="1828800"/>
            <a:ext cx="2133720" cy="58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18288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35200" y="190512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z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943600" y="18288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477120" y="182880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010280" y="18288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410080" y="1828800"/>
            <a:ext cx="2133720" cy="58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609120" y="2286000"/>
            <a:ext cx="7621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981080" y="2286000"/>
            <a:ext cx="83844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514600" y="22860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562720" y="2286000"/>
            <a:ext cx="2286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2286000"/>
            <a:ext cx="19810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57400" y="1600200"/>
            <a:ext cx="5105520" cy="0"/>
          </a:xfrm>
          <a:prstGeom prst="line">
            <a:avLst/>
          </a:prstGeom>
          <a:ln w="381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228600" y="2590560"/>
            <a:ext cx="8458200" cy="75960"/>
          </a:xfrm>
          <a:prstGeom prst="line">
            <a:avLst/>
          </a:prstGeom>
          <a:ln w="381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05640" y="685800"/>
            <a:ext cx="1358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Qu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q: Mai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B9C-51A3-4FD1-9DD3-16084F35EE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*-Baum-Such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2286000"/>
            <a:ext cx="9144000" cy="2100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533520"/>
            <a:ext cx="9144000" cy="17524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6320" y="350532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20" y="358920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a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350532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143000" y="3513240"/>
            <a:ext cx="533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676520" y="350532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840" y="358920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rl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286000" y="350532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10400" y="35812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rfu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350532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320" y="3505320"/>
            <a:ext cx="2133360" cy="58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820600" y="358920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286000" y="3505320"/>
            <a:ext cx="2133720" cy="58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24280" y="34974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724280" y="358128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öl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257800" y="34974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91320" y="349740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324480" y="34974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181480" y="35812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in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724280" y="3497400"/>
            <a:ext cx="2133720" cy="58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43720" y="35892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716080" y="358128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z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83196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57960" y="91440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14800" y="83196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648320" y="83196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181480" y="83196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581280" y="831960"/>
            <a:ext cx="2133720" cy="58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362320" y="1289160"/>
            <a:ext cx="129528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267080" y="1289160"/>
            <a:ext cx="114300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698240" y="26701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*-Ba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948360" y="34974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934680" y="35812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481880" y="34974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015400" y="349740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548560" y="34974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391520" y="3429000"/>
            <a:ext cx="82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ar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rüc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948360" y="3497400"/>
            <a:ext cx="2133720" cy="58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078760" y="35812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626320" y="35812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l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5228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492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06668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97180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12408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7672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44792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94360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08660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23888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39152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62012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69608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77240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84872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92468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48640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63868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6212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1440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22960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8188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83908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514600" y="389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09588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248520" y="38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4761000" y="3886200"/>
            <a:ext cx="457200" cy="609480"/>
            <a:chOff x="4761000" y="3886200"/>
            <a:chExt cx="457200" cy="609480"/>
          </a:xfrm>
        </p:grpSpPr>
        <p:sp>
          <p:nvSpPr>
            <p:cNvPr id="728" name=""/>
            <p:cNvSpPr/>
            <p:nvPr/>
          </p:nvSpPr>
          <p:spPr>
            <a:xfrm>
              <a:off x="4913640" y="3886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65920" y="3886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218200" y="3886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761000" y="3886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3276720" y="274320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76720" y="2743200"/>
            <a:ext cx="71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ank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u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809880" y="27432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343400" y="27432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876920" y="274320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10240" y="282744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76720" y="2743200"/>
            <a:ext cx="2133360" cy="58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038480" y="312408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191120" y="312408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505320" y="313200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352680" y="350532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86200" y="350532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295280" y="18288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96000" y="1905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828800" y="18288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62320" y="182880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895480" y="18288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828800" y="190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295280" y="1828800"/>
            <a:ext cx="2133720" cy="58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410080" y="18288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0" y="190512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z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943600" y="18288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477120" y="182880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010280" y="18288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410080" y="1828800"/>
            <a:ext cx="2133720" cy="58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609120" y="2286000"/>
            <a:ext cx="7621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981080" y="2286000"/>
            <a:ext cx="83844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514600" y="22860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562720" y="2286000"/>
            <a:ext cx="2286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019920" y="2286000"/>
            <a:ext cx="19810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057400" y="1600200"/>
            <a:ext cx="5105520" cy="0"/>
          </a:xfrm>
          <a:prstGeom prst="line">
            <a:avLst/>
          </a:prstGeom>
          <a:ln w="381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228600" y="2590560"/>
            <a:ext cx="8458200" cy="75960"/>
          </a:xfrm>
          <a:prstGeom prst="line">
            <a:avLst/>
          </a:prstGeom>
          <a:ln w="381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05280" y="685800"/>
            <a:ext cx="1460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Qu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q: Gieß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D1D0-CF5B-422D-AE3E-04C902BEB3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imes New Roman"/>
              </a:rPr>
              <a:t>Pseudocode für Einfügen in B*-Baum (Grow&amp;Pos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-12960" y="522360"/>
            <a:ext cx="9298800" cy="63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uche nach einzufügendem Schlüssel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f e ist noch nicht vorhanden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i t das Blatt, bei dem die Suche erfolglos geendet 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f t hat weniger als 2m* bzw. 2m Schlüssel (d.h. ist nicht vo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n füge e in t 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lse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/* Knoten-Split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timme Median s der 2m* +1 bzw. 2m+1 Schlüssel inkl.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zeuge Bruderknoten t‘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/* Grow-Phas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f t ist Blattknoten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ichere Schlüssel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 in t und Schlüssel &gt; s in t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lse Speichere Schlüssel &lt; s (mit Sohnzeigern) in t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lüssel &gt; s (mit Sohnzeigern) in t‘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f t ist Wurzel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/* Post-Phas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n Erzeuge neue Wurzel r mit Schlüssel s und Zeigern auf t und t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lse Betrachte Vater von t als neues t und s (mit Zeiger auf t‘) als e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il kein Knoten-Split mehr erfol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FFE5-D191-4859-985F-7B2525CA0B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ispiel: Einfügen in B*-Ba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685800" y="838080"/>
            <a:ext cx="7620120" cy="5486400"/>
            <a:chOff x="685800" y="838080"/>
            <a:chExt cx="7620120" cy="5486400"/>
          </a:xfrm>
        </p:grpSpPr>
        <p:sp>
          <p:nvSpPr>
            <p:cNvPr id="769" name=""/>
            <p:cNvSpPr/>
            <p:nvPr/>
          </p:nvSpPr>
          <p:spPr>
            <a:xfrm>
              <a:off x="1067040" y="2574720"/>
              <a:ext cx="6921360" cy="693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67040" y="838080"/>
              <a:ext cx="6921360" cy="1736640"/>
            </a:xfrm>
            <a:prstGeom prst="triangle">
              <a:avLst>
                <a:gd name="adj" fmla="val 50000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765440" y="2574720"/>
              <a:ext cx="44460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677600" y="26668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d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10040" y="2574720"/>
              <a:ext cx="44424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54280" y="2574720"/>
              <a:ext cx="44460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098880" y="2574720"/>
              <a:ext cx="44460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273400" y="26668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06840" y="2574720"/>
              <a:ext cx="44460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2720" y="26668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051440" y="2574720"/>
              <a:ext cx="44460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496040" y="2574720"/>
              <a:ext cx="44424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940280" y="2574720"/>
              <a:ext cx="44460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765440" y="2574720"/>
              <a:ext cx="1778040" cy="485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115880" y="266688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606840" y="2574720"/>
              <a:ext cx="1778040" cy="485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448600" y="2574720"/>
              <a:ext cx="44424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11520" y="26668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892840" y="2574720"/>
              <a:ext cx="44460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337440" y="2574720"/>
              <a:ext cx="44460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782040" y="2574720"/>
              <a:ext cx="44424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867640" y="26668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448600" y="2574720"/>
              <a:ext cx="1777680" cy="485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667960" y="2666880"/>
              <a:ext cx="48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400800" y="2666880"/>
              <a:ext cx="40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06440" y="266688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670560" y="1393560"/>
              <a:ext cx="44424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658680" y="1447560"/>
              <a:ext cx="48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14800" y="1393560"/>
              <a:ext cx="44460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559400" y="1393560"/>
              <a:ext cx="44460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004000" y="1393560"/>
              <a:ext cx="44460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191120" y="146016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670560" y="1393560"/>
              <a:ext cx="1778040" cy="485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2718000" y="1676160"/>
              <a:ext cx="1092240" cy="89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191120" y="1676160"/>
              <a:ext cx="304920" cy="89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648320" y="1676160"/>
              <a:ext cx="1689120" cy="89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85800" y="5630760"/>
              <a:ext cx="7620120" cy="693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85800" y="3893760"/>
              <a:ext cx="7620120" cy="1737000"/>
            </a:xfrm>
            <a:prstGeom prst="triangle">
              <a:avLst>
                <a:gd name="adj" fmla="val 50000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791000" y="5630760"/>
              <a:ext cx="44424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709280" y="571464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d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235240" y="5630760"/>
              <a:ext cx="44460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679840" y="5630760"/>
              <a:ext cx="444600" cy="485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24440" y="5630760"/>
              <a:ext cx="44424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298960" y="571464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632400" y="5630760"/>
              <a:ext cx="44460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582720" y="5714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077000" y="5630760"/>
              <a:ext cx="444240" cy="485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521240" y="5630760"/>
              <a:ext cx="44460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965840" y="5630760"/>
              <a:ext cx="44460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791000" y="5630760"/>
              <a:ext cx="1777680" cy="485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038840" y="571464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l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632400" y="5630760"/>
              <a:ext cx="1778040" cy="485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473800" y="5630760"/>
              <a:ext cx="44460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411520" y="571464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918400" y="5630760"/>
              <a:ext cx="44460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63000" y="5630760"/>
              <a:ext cx="44424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807240" y="5630760"/>
              <a:ext cx="44460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67640" y="5714640"/>
              <a:ext cx="57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473800" y="5630760"/>
              <a:ext cx="1778040" cy="485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43920" y="571464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o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400800" y="5714640"/>
              <a:ext cx="40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782760" y="571464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670560" y="4449600"/>
              <a:ext cx="44424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658680" y="4495680"/>
              <a:ext cx="48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114800" y="4449600"/>
              <a:ext cx="44460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559400" y="4449600"/>
              <a:ext cx="44460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004000" y="4449600"/>
              <a:ext cx="444600" cy="48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191120" y="449568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670560" y="4449600"/>
              <a:ext cx="1778040" cy="485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2590560" y="4724280"/>
              <a:ext cx="12193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191120" y="4647960"/>
              <a:ext cx="3049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648320" y="4724280"/>
              <a:ext cx="1676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124440" y="571464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522320" y="571464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343400" y="3428640"/>
              <a:ext cx="304920" cy="381240"/>
            </a:xfrm>
            <a:prstGeom prst="downArrow">
              <a:avLst>
                <a:gd name="adj1" fmla="val 50000"/>
                <a:gd name="adj2" fmla="val 3125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708080" y="3439800"/>
              <a:ext cx="123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+ Ellen, + Bo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47F4-0DF8-43FC-9753-DD4D36E107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ispiel: Einfügen in B*-Baum mit Blatt-Spl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609480" y="762120"/>
            <a:ext cx="7620120" cy="5706720"/>
            <a:chOff x="609480" y="762120"/>
            <a:chExt cx="7620120" cy="5706720"/>
          </a:xfrm>
        </p:grpSpPr>
        <p:sp>
          <p:nvSpPr>
            <p:cNvPr id="847" name=""/>
            <p:cNvSpPr/>
            <p:nvPr/>
          </p:nvSpPr>
          <p:spPr>
            <a:xfrm>
              <a:off x="609480" y="5793480"/>
              <a:ext cx="7620120" cy="675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09480" y="4101480"/>
              <a:ext cx="7620120" cy="1691640"/>
            </a:xfrm>
            <a:prstGeom prst="triangle">
              <a:avLst>
                <a:gd name="adj" fmla="val 50000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0280" y="5793480"/>
              <a:ext cx="44424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18560" y="588276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d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44520" y="5793480"/>
              <a:ext cx="44460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689120" y="5793480"/>
              <a:ext cx="44460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133720" y="5793480"/>
              <a:ext cx="44424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308240" y="58827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641680" y="5793480"/>
              <a:ext cx="44460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592000" y="58827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086280" y="5793480"/>
              <a:ext cx="44424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530520" y="5793480"/>
              <a:ext cx="44460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975120" y="5793480"/>
              <a:ext cx="44460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00280" y="5793480"/>
              <a:ext cx="1777680" cy="472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048120" y="588276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l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641680" y="5793480"/>
              <a:ext cx="1778040" cy="472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83080" y="5793480"/>
              <a:ext cx="44460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420800" y="588276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927680" y="5793480"/>
              <a:ext cx="44460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372280" y="5793480"/>
              <a:ext cx="44424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816520" y="5793480"/>
              <a:ext cx="444600" cy="472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876920" y="5882760"/>
              <a:ext cx="57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483080" y="5793480"/>
              <a:ext cx="1778040" cy="472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319800" y="5793480"/>
              <a:ext cx="444600" cy="472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325560" y="588276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764400" y="5793480"/>
              <a:ext cx="444600" cy="472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209000" y="5793480"/>
              <a:ext cx="444240" cy="4726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653240" y="5793480"/>
              <a:ext cx="444600" cy="4726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782400" y="588276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319800" y="5793480"/>
              <a:ext cx="1778040" cy="472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753200" y="588276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o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410080" y="5882760"/>
              <a:ext cx="40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594240" y="4642920"/>
              <a:ext cx="44424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582360" y="4687920"/>
              <a:ext cx="48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038480" y="4642920"/>
              <a:ext cx="44460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483080" y="4642920"/>
              <a:ext cx="444600" cy="4726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927680" y="4642920"/>
              <a:ext cx="444600" cy="472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114800" y="468792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94240" y="4642920"/>
              <a:ext cx="1778040" cy="472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495680" y="4687920"/>
              <a:ext cx="71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1689120" y="4845240"/>
              <a:ext cx="1968480" cy="9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3530520" y="4845240"/>
              <a:ext cx="635040" cy="9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572000" y="4910400"/>
              <a:ext cx="800280" cy="8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133720" y="588276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531600" y="588276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267080" y="3648600"/>
              <a:ext cx="304920" cy="371160"/>
            </a:xfrm>
            <a:prstGeom prst="downArrow">
              <a:avLst>
                <a:gd name="adj1" fmla="val 50000"/>
                <a:gd name="adj2" fmla="val 304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438640" y="3656160"/>
              <a:ext cx="176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af Node Spl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09480" y="2891160"/>
              <a:ext cx="7620120" cy="675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09480" y="1199520"/>
              <a:ext cx="7620120" cy="1691640"/>
            </a:xfrm>
            <a:prstGeom prst="triangle">
              <a:avLst>
                <a:gd name="adj" fmla="val 50000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714680" y="2914560"/>
              <a:ext cx="44424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632960" y="29962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d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158920" y="2914560"/>
              <a:ext cx="44460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603520" y="2914560"/>
              <a:ext cx="44460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048120" y="2914560"/>
              <a:ext cx="44424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222640" y="29962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556080" y="2914560"/>
              <a:ext cx="44460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506400" y="2996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000680" y="2914560"/>
              <a:ext cx="44424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444920" y="2914560"/>
              <a:ext cx="44460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889520" y="2914560"/>
              <a:ext cx="44460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714680" y="2914560"/>
              <a:ext cx="1777680" cy="472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962520" y="299628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l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556080" y="2914560"/>
              <a:ext cx="1778040" cy="472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397480" y="2914560"/>
              <a:ext cx="44460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335200" y="2996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842080" y="2914560"/>
              <a:ext cx="44460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286680" y="2914560"/>
              <a:ext cx="44424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730920" y="2914560"/>
              <a:ext cx="44460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791320" y="2996280"/>
              <a:ext cx="57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397480" y="2914560"/>
              <a:ext cx="1778040" cy="472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667600" y="299628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o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324480" y="2996280"/>
              <a:ext cx="40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706440" y="299628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594240" y="1740960"/>
              <a:ext cx="44424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582360" y="1785600"/>
              <a:ext cx="48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38480" y="1740960"/>
              <a:ext cx="44460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483080" y="1740960"/>
              <a:ext cx="44460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927680" y="1740960"/>
              <a:ext cx="44460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114800" y="178560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594240" y="1740960"/>
              <a:ext cx="1778040" cy="472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590560" y="2016000"/>
              <a:ext cx="1143000" cy="89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114800" y="1941840"/>
              <a:ext cx="304920" cy="9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572000" y="2008440"/>
              <a:ext cx="1752480" cy="9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48120" y="29962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446000" y="299628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267080" y="762120"/>
              <a:ext cx="304920" cy="371160"/>
            </a:xfrm>
            <a:prstGeom prst="downArrow">
              <a:avLst>
                <a:gd name="adj1" fmla="val 50000"/>
                <a:gd name="adj2" fmla="val 304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633200" y="772920"/>
              <a:ext cx="59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+ S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29200" y="4918320"/>
              <a:ext cx="213372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201080" y="2906640"/>
              <a:ext cx="444240" cy="4726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39960" y="298836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A16-5497-493A-B565-E61CC0B960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erne (idealisierte) Schichtenarchitektur eines DB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86880" y="914400"/>
            <a:ext cx="7237800" cy="5724360"/>
            <a:chOff x="686880" y="914400"/>
            <a:chExt cx="7237800" cy="5724360"/>
          </a:xfrm>
        </p:grpSpPr>
        <p:sp>
          <p:nvSpPr>
            <p:cNvPr id="46" name=""/>
            <p:cNvSpPr/>
            <p:nvPr/>
          </p:nvSpPr>
          <p:spPr>
            <a:xfrm>
              <a:off x="4952880" y="5029200"/>
              <a:ext cx="1519200" cy="160956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27800" y="5572080"/>
              <a:ext cx="9032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62320" y="5486400"/>
              <a:ext cx="1218960" cy="838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90920" y="5562720"/>
              <a:ext cx="903240" cy="53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629760" y="6095880"/>
              <a:ext cx="111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59320" y="5689440"/>
              <a:ext cx="9032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214960" y="5821200"/>
              <a:ext cx="9032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70600" y="5952960"/>
              <a:ext cx="903240" cy="53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7960" y="3430440"/>
              <a:ext cx="1383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6880" y="1246320"/>
              <a:ext cx="1096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li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51160" y="1112760"/>
              <a:ext cx="723960" cy="463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28000" y="1112760"/>
              <a:ext cx="723600" cy="463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87720" y="914400"/>
              <a:ext cx="81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39880" y="177480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que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33720" y="2371680"/>
              <a:ext cx="5790960" cy="463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nguage &amp; Interface Lay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33720" y="2835360"/>
              <a:ext cx="5790960" cy="463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uery Decomposition &am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timization Lay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3720" y="3298680"/>
              <a:ext cx="5790960" cy="463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uery Execution Lay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33720" y="3762360"/>
              <a:ext cx="5790960" cy="4636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ccess Lay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33720" y="4226040"/>
              <a:ext cx="5790960" cy="4633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orage Lay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2371680"/>
              <a:ext cx="5790960" cy="2317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38680" y="4724280"/>
              <a:ext cx="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36920" y="1112760"/>
              <a:ext cx="723960" cy="463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351160" y="2371680"/>
              <a:ext cx="74160" cy="2317320"/>
              <a:chOff x="2351160" y="2371680"/>
              <a:chExt cx="74160" cy="231732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53680" y="2371680"/>
                <a:ext cx="71640" cy="1331640"/>
                <a:chOff x="2353680" y="2371680"/>
                <a:chExt cx="71640" cy="1331640"/>
              </a:xfrm>
            </p:grpSpPr>
            <p:grpSp>
              <p:nvGrpSpPr>
                <p:cNvPr id="70" name=""/>
                <p:cNvGrpSpPr/>
                <p:nvPr/>
              </p:nvGrpSpPr>
              <p:grpSpPr>
                <a:xfrm>
                  <a:off x="2353680" y="2371680"/>
                  <a:ext cx="71640" cy="665640"/>
                  <a:chOff x="2353680" y="2371680"/>
                  <a:chExt cx="71640" cy="665640"/>
                </a:xfrm>
              </p:grpSpPr>
              <p:sp>
                <p:nvSpPr>
                  <p:cNvPr id="71" name=""/>
                  <p:cNvSpPr/>
                  <p:nvPr/>
                </p:nvSpPr>
                <p:spPr>
                  <a:xfrm flipV="1" rot="5400000">
                    <a:off x="2306160" y="2418840"/>
                    <a:ext cx="1663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2">
                        <a:moveTo>
                          <a:pt x="0" y="336"/>
                        </a:moveTo>
                        <a:cubicBezTo>
                          <a:pt x="28" y="216"/>
                          <a:pt x="56" y="96"/>
                          <a:pt x="96" y="48"/>
                        </a:cubicBezTo>
                        <a:cubicBezTo>
                          <a:pt x="136" y="0"/>
                          <a:pt x="200" y="8"/>
                          <a:pt x="240" y="48"/>
                        </a:cubicBezTo>
                        <a:cubicBezTo>
                          <a:pt x="280" y="88"/>
                          <a:pt x="296" y="200"/>
                          <a:pt x="336" y="288"/>
                        </a:cubicBezTo>
                        <a:cubicBezTo>
                          <a:pt x="376" y="376"/>
                          <a:pt x="432" y="520"/>
                          <a:pt x="480" y="576"/>
                        </a:cubicBezTo>
                        <a:cubicBezTo>
                          <a:pt x="528" y="632"/>
                          <a:pt x="584" y="632"/>
                          <a:pt x="624" y="624"/>
                        </a:cubicBezTo>
                        <a:cubicBezTo>
                          <a:pt x="664" y="616"/>
                          <a:pt x="696" y="576"/>
                          <a:pt x="720" y="528"/>
                        </a:cubicBezTo>
                        <a:cubicBezTo>
                          <a:pt x="744" y="480"/>
                          <a:pt x="768" y="368"/>
                          <a:pt x="768" y="336"/>
                        </a:cubicBezTo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 flipV="1" rot="5400000">
                    <a:off x="2306160" y="2585160"/>
                    <a:ext cx="1663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2">
                        <a:moveTo>
                          <a:pt x="0" y="336"/>
                        </a:moveTo>
                        <a:cubicBezTo>
                          <a:pt x="28" y="216"/>
                          <a:pt x="56" y="96"/>
                          <a:pt x="96" y="48"/>
                        </a:cubicBezTo>
                        <a:cubicBezTo>
                          <a:pt x="136" y="0"/>
                          <a:pt x="200" y="8"/>
                          <a:pt x="240" y="48"/>
                        </a:cubicBezTo>
                        <a:cubicBezTo>
                          <a:pt x="280" y="88"/>
                          <a:pt x="296" y="200"/>
                          <a:pt x="336" y="288"/>
                        </a:cubicBezTo>
                        <a:cubicBezTo>
                          <a:pt x="376" y="376"/>
                          <a:pt x="432" y="520"/>
                          <a:pt x="480" y="576"/>
                        </a:cubicBezTo>
                        <a:cubicBezTo>
                          <a:pt x="528" y="632"/>
                          <a:pt x="584" y="632"/>
                          <a:pt x="624" y="624"/>
                        </a:cubicBezTo>
                        <a:cubicBezTo>
                          <a:pt x="664" y="616"/>
                          <a:pt x="696" y="576"/>
                          <a:pt x="720" y="528"/>
                        </a:cubicBezTo>
                        <a:cubicBezTo>
                          <a:pt x="744" y="480"/>
                          <a:pt x="768" y="368"/>
                          <a:pt x="768" y="336"/>
                        </a:cubicBezTo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flipV="1" rot="5400000">
                    <a:off x="2306160" y="2751480"/>
                    <a:ext cx="1663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2">
                        <a:moveTo>
                          <a:pt x="0" y="336"/>
                        </a:moveTo>
                        <a:cubicBezTo>
                          <a:pt x="28" y="216"/>
                          <a:pt x="56" y="96"/>
                          <a:pt x="96" y="48"/>
                        </a:cubicBezTo>
                        <a:cubicBezTo>
                          <a:pt x="136" y="0"/>
                          <a:pt x="200" y="8"/>
                          <a:pt x="240" y="48"/>
                        </a:cubicBezTo>
                        <a:cubicBezTo>
                          <a:pt x="280" y="88"/>
                          <a:pt x="296" y="200"/>
                          <a:pt x="336" y="288"/>
                        </a:cubicBezTo>
                        <a:cubicBezTo>
                          <a:pt x="376" y="376"/>
                          <a:pt x="432" y="520"/>
                          <a:pt x="480" y="576"/>
                        </a:cubicBezTo>
                        <a:cubicBezTo>
                          <a:pt x="528" y="632"/>
                          <a:pt x="584" y="632"/>
                          <a:pt x="624" y="624"/>
                        </a:cubicBezTo>
                        <a:cubicBezTo>
                          <a:pt x="664" y="616"/>
                          <a:pt x="696" y="576"/>
                          <a:pt x="720" y="528"/>
                        </a:cubicBezTo>
                        <a:cubicBezTo>
                          <a:pt x="744" y="480"/>
                          <a:pt x="768" y="368"/>
                          <a:pt x="768" y="336"/>
                        </a:cubicBezTo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flipV="1" rot="5400000">
                    <a:off x="2306160" y="2918160"/>
                    <a:ext cx="1663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2">
                        <a:moveTo>
                          <a:pt x="0" y="336"/>
                        </a:moveTo>
                        <a:cubicBezTo>
                          <a:pt x="28" y="216"/>
                          <a:pt x="56" y="96"/>
                          <a:pt x="96" y="48"/>
                        </a:cubicBezTo>
                        <a:cubicBezTo>
                          <a:pt x="136" y="0"/>
                          <a:pt x="200" y="8"/>
                          <a:pt x="240" y="48"/>
                        </a:cubicBezTo>
                        <a:cubicBezTo>
                          <a:pt x="280" y="88"/>
                          <a:pt x="296" y="200"/>
                          <a:pt x="336" y="288"/>
                        </a:cubicBezTo>
                        <a:cubicBezTo>
                          <a:pt x="376" y="376"/>
                          <a:pt x="432" y="520"/>
                          <a:pt x="480" y="576"/>
                        </a:cubicBezTo>
                        <a:cubicBezTo>
                          <a:pt x="528" y="632"/>
                          <a:pt x="584" y="632"/>
                          <a:pt x="624" y="624"/>
                        </a:cubicBezTo>
                        <a:cubicBezTo>
                          <a:pt x="664" y="616"/>
                          <a:pt x="696" y="576"/>
                          <a:pt x="720" y="528"/>
                        </a:cubicBezTo>
                        <a:cubicBezTo>
                          <a:pt x="744" y="480"/>
                          <a:pt x="768" y="368"/>
                          <a:pt x="768" y="336"/>
                        </a:cubicBezTo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2353680" y="3037320"/>
                  <a:ext cx="71640" cy="666000"/>
                  <a:chOff x="2353680" y="3037320"/>
                  <a:chExt cx="71640" cy="6660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flipV="1" rot="5400000">
                    <a:off x="2306160" y="3084480"/>
                    <a:ext cx="1663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2">
                        <a:moveTo>
                          <a:pt x="0" y="336"/>
                        </a:moveTo>
                        <a:cubicBezTo>
                          <a:pt x="28" y="216"/>
                          <a:pt x="56" y="96"/>
                          <a:pt x="96" y="48"/>
                        </a:cubicBezTo>
                        <a:cubicBezTo>
                          <a:pt x="136" y="0"/>
                          <a:pt x="200" y="8"/>
                          <a:pt x="240" y="48"/>
                        </a:cubicBezTo>
                        <a:cubicBezTo>
                          <a:pt x="280" y="88"/>
                          <a:pt x="296" y="200"/>
                          <a:pt x="336" y="288"/>
                        </a:cubicBezTo>
                        <a:cubicBezTo>
                          <a:pt x="376" y="376"/>
                          <a:pt x="432" y="520"/>
                          <a:pt x="480" y="576"/>
                        </a:cubicBezTo>
                        <a:cubicBezTo>
                          <a:pt x="528" y="632"/>
                          <a:pt x="584" y="632"/>
                          <a:pt x="624" y="624"/>
                        </a:cubicBezTo>
                        <a:cubicBezTo>
                          <a:pt x="664" y="616"/>
                          <a:pt x="696" y="576"/>
                          <a:pt x="720" y="528"/>
                        </a:cubicBezTo>
                        <a:cubicBezTo>
                          <a:pt x="744" y="480"/>
                          <a:pt x="768" y="368"/>
                          <a:pt x="768" y="336"/>
                        </a:cubicBezTo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flipV="1" rot="5400000">
                    <a:off x="2306160" y="3250800"/>
                    <a:ext cx="1663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2">
                        <a:moveTo>
                          <a:pt x="0" y="336"/>
                        </a:moveTo>
                        <a:cubicBezTo>
                          <a:pt x="28" y="216"/>
                          <a:pt x="56" y="96"/>
                          <a:pt x="96" y="48"/>
                        </a:cubicBezTo>
                        <a:cubicBezTo>
                          <a:pt x="136" y="0"/>
                          <a:pt x="200" y="8"/>
                          <a:pt x="240" y="48"/>
                        </a:cubicBezTo>
                        <a:cubicBezTo>
                          <a:pt x="280" y="88"/>
                          <a:pt x="296" y="200"/>
                          <a:pt x="336" y="288"/>
                        </a:cubicBezTo>
                        <a:cubicBezTo>
                          <a:pt x="376" y="376"/>
                          <a:pt x="432" y="520"/>
                          <a:pt x="480" y="576"/>
                        </a:cubicBezTo>
                        <a:cubicBezTo>
                          <a:pt x="528" y="632"/>
                          <a:pt x="584" y="632"/>
                          <a:pt x="624" y="624"/>
                        </a:cubicBezTo>
                        <a:cubicBezTo>
                          <a:pt x="664" y="616"/>
                          <a:pt x="696" y="576"/>
                          <a:pt x="720" y="528"/>
                        </a:cubicBezTo>
                        <a:cubicBezTo>
                          <a:pt x="744" y="480"/>
                          <a:pt x="768" y="368"/>
                          <a:pt x="768" y="336"/>
                        </a:cubicBezTo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flipV="1" rot="5400000">
                    <a:off x="2306160" y="3417480"/>
                    <a:ext cx="1663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2">
                        <a:moveTo>
                          <a:pt x="0" y="336"/>
                        </a:moveTo>
                        <a:cubicBezTo>
                          <a:pt x="28" y="216"/>
                          <a:pt x="56" y="96"/>
                          <a:pt x="96" y="48"/>
                        </a:cubicBezTo>
                        <a:cubicBezTo>
                          <a:pt x="136" y="0"/>
                          <a:pt x="200" y="8"/>
                          <a:pt x="240" y="48"/>
                        </a:cubicBezTo>
                        <a:cubicBezTo>
                          <a:pt x="280" y="88"/>
                          <a:pt x="296" y="200"/>
                          <a:pt x="336" y="288"/>
                        </a:cubicBezTo>
                        <a:cubicBezTo>
                          <a:pt x="376" y="376"/>
                          <a:pt x="432" y="520"/>
                          <a:pt x="480" y="576"/>
                        </a:cubicBezTo>
                        <a:cubicBezTo>
                          <a:pt x="528" y="632"/>
                          <a:pt x="584" y="632"/>
                          <a:pt x="624" y="624"/>
                        </a:cubicBezTo>
                        <a:cubicBezTo>
                          <a:pt x="664" y="616"/>
                          <a:pt x="696" y="576"/>
                          <a:pt x="720" y="528"/>
                        </a:cubicBezTo>
                        <a:cubicBezTo>
                          <a:pt x="744" y="480"/>
                          <a:pt x="768" y="368"/>
                          <a:pt x="768" y="336"/>
                        </a:cubicBezTo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V="1" rot="5400000">
                    <a:off x="2306160" y="3584160"/>
                    <a:ext cx="1663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2">
                        <a:moveTo>
                          <a:pt x="0" y="336"/>
                        </a:moveTo>
                        <a:cubicBezTo>
                          <a:pt x="28" y="216"/>
                          <a:pt x="56" y="96"/>
                          <a:pt x="96" y="48"/>
                        </a:cubicBezTo>
                        <a:cubicBezTo>
                          <a:pt x="136" y="0"/>
                          <a:pt x="200" y="8"/>
                          <a:pt x="240" y="48"/>
                        </a:cubicBezTo>
                        <a:cubicBezTo>
                          <a:pt x="280" y="88"/>
                          <a:pt x="296" y="200"/>
                          <a:pt x="336" y="288"/>
                        </a:cubicBezTo>
                        <a:cubicBezTo>
                          <a:pt x="376" y="376"/>
                          <a:pt x="432" y="520"/>
                          <a:pt x="480" y="576"/>
                        </a:cubicBezTo>
                        <a:cubicBezTo>
                          <a:pt x="528" y="632"/>
                          <a:pt x="584" y="632"/>
                          <a:pt x="624" y="624"/>
                        </a:cubicBezTo>
                        <a:cubicBezTo>
                          <a:pt x="664" y="616"/>
                          <a:pt x="696" y="576"/>
                          <a:pt x="720" y="528"/>
                        </a:cubicBezTo>
                        <a:cubicBezTo>
                          <a:pt x="744" y="480"/>
                          <a:pt x="768" y="368"/>
                          <a:pt x="768" y="336"/>
                        </a:cubicBezTo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" name=""/>
              <p:cNvGrpSpPr/>
              <p:nvPr/>
            </p:nvGrpSpPr>
            <p:grpSpPr>
              <a:xfrm>
                <a:off x="2352240" y="3691440"/>
                <a:ext cx="72000" cy="666000"/>
                <a:chOff x="2352240" y="3691440"/>
                <a:chExt cx="72000" cy="666000"/>
              </a:xfrm>
            </p:grpSpPr>
            <p:sp>
              <p:nvSpPr>
                <p:cNvPr id="81" name=""/>
                <p:cNvSpPr/>
                <p:nvPr/>
              </p:nvSpPr>
              <p:spPr>
                <a:xfrm flipV="1" rot="5400000">
                  <a:off x="2305080" y="3738600"/>
                  <a:ext cx="166320" cy="72000"/>
                </a:xfrm>
                <a:custGeom>
                  <a:avLst/>
                  <a:gdLst/>
                  <a:ahLst/>
                  <a:rect l="l" t="t" r="r" b="b"/>
                  <a:pathLst>
                    <a:path w="768" h="632">
                      <a:moveTo>
                        <a:pt x="0" y="336"/>
                      </a:moveTo>
                      <a:cubicBezTo>
                        <a:pt x="28" y="216"/>
                        <a:pt x="56" y="96"/>
                        <a:pt x="96" y="48"/>
                      </a:cubicBezTo>
                      <a:cubicBezTo>
                        <a:pt x="136" y="0"/>
                        <a:pt x="200" y="8"/>
                        <a:pt x="240" y="48"/>
                      </a:cubicBezTo>
                      <a:cubicBezTo>
                        <a:pt x="280" y="88"/>
                        <a:pt x="296" y="200"/>
                        <a:pt x="336" y="288"/>
                      </a:cubicBezTo>
                      <a:cubicBezTo>
                        <a:pt x="376" y="376"/>
                        <a:pt x="432" y="520"/>
                        <a:pt x="480" y="576"/>
                      </a:cubicBezTo>
                      <a:cubicBezTo>
                        <a:pt x="528" y="632"/>
                        <a:pt x="584" y="632"/>
                        <a:pt x="624" y="624"/>
                      </a:cubicBezTo>
                      <a:cubicBezTo>
                        <a:pt x="664" y="616"/>
                        <a:pt x="696" y="576"/>
                        <a:pt x="720" y="528"/>
                      </a:cubicBezTo>
                      <a:cubicBezTo>
                        <a:pt x="744" y="480"/>
                        <a:pt x="768" y="368"/>
                        <a:pt x="768" y="336"/>
                      </a:cubicBezTo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 rot="5400000">
                  <a:off x="2305080" y="3904920"/>
                  <a:ext cx="166320" cy="72000"/>
                </a:xfrm>
                <a:custGeom>
                  <a:avLst/>
                  <a:gdLst/>
                  <a:ahLst/>
                  <a:rect l="l" t="t" r="r" b="b"/>
                  <a:pathLst>
                    <a:path w="768" h="632">
                      <a:moveTo>
                        <a:pt x="0" y="336"/>
                      </a:moveTo>
                      <a:cubicBezTo>
                        <a:pt x="28" y="216"/>
                        <a:pt x="56" y="96"/>
                        <a:pt x="96" y="48"/>
                      </a:cubicBezTo>
                      <a:cubicBezTo>
                        <a:pt x="136" y="0"/>
                        <a:pt x="200" y="8"/>
                        <a:pt x="240" y="48"/>
                      </a:cubicBezTo>
                      <a:cubicBezTo>
                        <a:pt x="280" y="88"/>
                        <a:pt x="296" y="200"/>
                        <a:pt x="336" y="288"/>
                      </a:cubicBezTo>
                      <a:cubicBezTo>
                        <a:pt x="376" y="376"/>
                        <a:pt x="432" y="520"/>
                        <a:pt x="480" y="576"/>
                      </a:cubicBezTo>
                      <a:cubicBezTo>
                        <a:pt x="528" y="632"/>
                        <a:pt x="584" y="632"/>
                        <a:pt x="624" y="624"/>
                      </a:cubicBezTo>
                      <a:cubicBezTo>
                        <a:pt x="664" y="616"/>
                        <a:pt x="696" y="576"/>
                        <a:pt x="720" y="528"/>
                      </a:cubicBezTo>
                      <a:cubicBezTo>
                        <a:pt x="744" y="480"/>
                        <a:pt x="768" y="368"/>
                        <a:pt x="768" y="336"/>
                      </a:cubicBezTo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V="1" rot="5400000">
                  <a:off x="2305080" y="4071600"/>
                  <a:ext cx="166320" cy="72000"/>
                </a:xfrm>
                <a:custGeom>
                  <a:avLst/>
                  <a:gdLst/>
                  <a:ahLst/>
                  <a:rect l="l" t="t" r="r" b="b"/>
                  <a:pathLst>
                    <a:path w="768" h="632">
                      <a:moveTo>
                        <a:pt x="0" y="336"/>
                      </a:moveTo>
                      <a:cubicBezTo>
                        <a:pt x="28" y="216"/>
                        <a:pt x="56" y="96"/>
                        <a:pt x="96" y="48"/>
                      </a:cubicBezTo>
                      <a:cubicBezTo>
                        <a:pt x="136" y="0"/>
                        <a:pt x="200" y="8"/>
                        <a:pt x="240" y="48"/>
                      </a:cubicBezTo>
                      <a:cubicBezTo>
                        <a:pt x="280" y="88"/>
                        <a:pt x="296" y="200"/>
                        <a:pt x="336" y="288"/>
                      </a:cubicBezTo>
                      <a:cubicBezTo>
                        <a:pt x="376" y="376"/>
                        <a:pt x="432" y="520"/>
                        <a:pt x="480" y="576"/>
                      </a:cubicBezTo>
                      <a:cubicBezTo>
                        <a:pt x="528" y="632"/>
                        <a:pt x="584" y="632"/>
                        <a:pt x="624" y="624"/>
                      </a:cubicBezTo>
                      <a:cubicBezTo>
                        <a:pt x="664" y="616"/>
                        <a:pt x="696" y="576"/>
                        <a:pt x="720" y="528"/>
                      </a:cubicBezTo>
                      <a:cubicBezTo>
                        <a:pt x="744" y="480"/>
                        <a:pt x="768" y="368"/>
                        <a:pt x="768" y="336"/>
                      </a:cubicBezTo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V="1" rot="5400000">
                  <a:off x="2305080" y="4238280"/>
                  <a:ext cx="166320" cy="72000"/>
                </a:xfrm>
                <a:custGeom>
                  <a:avLst/>
                  <a:gdLst/>
                  <a:ahLst/>
                  <a:rect l="l" t="t" r="r" b="b"/>
                  <a:pathLst>
                    <a:path w="768" h="632">
                      <a:moveTo>
                        <a:pt x="0" y="336"/>
                      </a:moveTo>
                      <a:cubicBezTo>
                        <a:pt x="28" y="216"/>
                        <a:pt x="56" y="96"/>
                        <a:pt x="96" y="48"/>
                      </a:cubicBezTo>
                      <a:cubicBezTo>
                        <a:pt x="136" y="0"/>
                        <a:pt x="200" y="8"/>
                        <a:pt x="240" y="48"/>
                      </a:cubicBezTo>
                      <a:cubicBezTo>
                        <a:pt x="280" y="88"/>
                        <a:pt x="296" y="200"/>
                        <a:pt x="336" y="288"/>
                      </a:cubicBezTo>
                      <a:cubicBezTo>
                        <a:pt x="376" y="376"/>
                        <a:pt x="432" y="520"/>
                        <a:pt x="480" y="576"/>
                      </a:cubicBezTo>
                      <a:cubicBezTo>
                        <a:pt x="528" y="632"/>
                        <a:pt x="584" y="632"/>
                        <a:pt x="624" y="624"/>
                      </a:cubicBezTo>
                      <a:cubicBezTo>
                        <a:pt x="664" y="616"/>
                        <a:pt x="696" y="576"/>
                        <a:pt x="720" y="528"/>
                      </a:cubicBezTo>
                      <a:cubicBezTo>
                        <a:pt x="744" y="480"/>
                        <a:pt x="768" y="368"/>
                        <a:pt x="768" y="336"/>
                      </a:cubicBezTo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 flipV="1" rot="5400000">
                <a:off x="2303640" y="4403160"/>
                <a:ext cx="166320" cy="71640"/>
              </a:xfrm>
              <a:custGeom>
                <a:avLst/>
                <a:gdLst/>
                <a:ahLst/>
                <a:rect l="l" t="t" r="r" b="b"/>
                <a:pathLst>
                  <a:path w="768" h="632">
                    <a:moveTo>
                      <a:pt x="0" y="336"/>
                    </a:moveTo>
                    <a:cubicBezTo>
                      <a:pt x="28" y="216"/>
                      <a:pt x="56" y="96"/>
                      <a:pt x="96" y="48"/>
                    </a:cubicBezTo>
                    <a:cubicBezTo>
                      <a:pt x="136" y="0"/>
                      <a:pt x="200" y="8"/>
                      <a:pt x="240" y="48"/>
                    </a:cubicBezTo>
                    <a:cubicBezTo>
                      <a:pt x="280" y="88"/>
                      <a:pt x="296" y="200"/>
                      <a:pt x="336" y="288"/>
                    </a:cubicBezTo>
                    <a:cubicBezTo>
                      <a:pt x="376" y="376"/>
                      <a:pt x="432" y="520"/>
                      <a:pt x="480" y="576"/>
                    </a:cubicBezTo>
                    <a:cubicBezTo>
                      <a:pt x="528" y="632"/>
                      <a:pt x="584" y="632"/>
                      <a:pt x="624" y="624"/>
                    </a:cubicBezTo>
                    <a:cubicBezTo>
                      <a:pt x="664" y="616"/>
                      <a:pt x="696" y="576"/>
                      <a:pt x="720" y="528"/>
                    </a:cubicBezTo>
                    <a:cubicBezTo>
                      <a:pt x="744" y="480"/>
                      <a:pt x="768" y="368"/>
                      <a:pt x="768" y="336"/>
                    </a:cubicBez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 rot="5400000">
                <a:off x="2303640" y="4569840"/>
                <a:ext cx="166320" cy="71640"/>
              </a:xfrm>
              <a:custGeom>
                <a:avLst/>
                <a:gdLst/>
                <a:ahLst/>
                <a:rect l="l" t="t" r="r" b="b"/>
                <a:pathLst>
                  <a:path w="768" h="632">
                    <a:moveTo>
                      <a:pt x="0" y="336"/>
                    </a:moveTo>
                    <a:cubicBezTo>
                      <a:pt x="28" y="216"/>
                      <a:pt x="56" y="96"/>
                      <a:pt x="96" y="48"/>
                    </a:cubicBezTo>
                    <a:cubicBezTo>
                      <a:pt x="136" y="0"/>
                      <a:pt x="200" y="8"/>
                      <a:pt x="240" y="48"/>
                    </a:cubicBezTo>
                    <a:cubicBezTo>
                      <a:pt x="280" y="88"/>
                      <a:pt x="296" y="200"/>
                      <a:pt x="336" y="288"/>
                    </a:cubicBezTo>
                    <a:cubicBezTo>
                      <a:pt x="376" y="376"/>
                      <a:pt x="432" y="520"/>
                      <a:pt x="480" y="576"/>
                    </a:cubicBezTo>
                    <a:cubicBezTo>
                      <a:pt x="528" y="632"/>
                      <a:pt x="584" y="632"/>
                      <a:pt x="624" y="624"/>
                    </a:cubicBezTo>
                    <a:cubicBezTo>
                      <a:pt x="664" y="616"/>
                      <a:pt x="696" y="576"/>
                      <a:pt x="720" y="528"/>
                    </a:cubicBezTo>
                    <a:cubicBezTo>
                      <a:pt x="744" y="480"/>
                      <a:pt x="768" y="368"/>
                      <a:pt x="768" y="336"/>
                    </a:cubicBez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3581280" y="2371680"/>
              <a:ext cx="76320" cy="2317320"/>
              <a:chOff x="3581280" y="2371680"/>
              <a:chExt cx="76320" cy="231732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3584160" y="2371680"/>
                <a:ext cx="73440" cy="1331640"/>
                <a:chOff x="3584160" y="2371680"/>
                <a:chExt cx="73440" cy="133164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3584160" y="2371680"/>
                  <a:ext cx="73440" cy="665640"/>
                  <a:chOff x="3584160" y="2371680"/>
                  <a:chExt cx="73440" cy="6656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V="1" rot="5400000">
                    <a:off x="3537720" y="2418120"/>
                    <a:ext cx="1663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2">
                        <a:moveTo>
                          <a:pt x="0" y="336"/>
                        </a:moveTo>
                        <a:cubicBezTo>
                          <a:pt x="28" y="216"/>
                          <a:pt x="56" y="96"/>
                          <a:pt x="96" y="48"/>
                        </a:cubicBezTo>
                        <a:cubicBezTo>
                          <a:pt x="136" y="0"/>
                          <a:pt x="200" y="8"/>
                          <a:pt x="240" y="48"/>
                        </a:cubicBezTo>
                        <a:cubicBezTo>
                          <a:pt x="280" y="88"/>
                          <a:pt x="296" y="200"/>
                          <a:pt x="336" y="288"/>
                        </a:cubicBezTo>
                        <a:cubicBezTo>
                          <a:pt x="376" y="376"/>
                          <a:pt x="432" y="520"/>
                          <a:pt x="480" y="576"/>
                        </a:cubicBezTo>
                        <a:cubicBezTo>
                          <a:pt x="528" y="632"/>
                          <a:pt x="584" y="632"/>
                          <a:pt x="624" y="624"/>
                        </a:cubicBezTo>
                        <a:cubicBezTo>
                          <a:pt x="664" y="616"/>
                          <a:pt x="696" y="576"/>
                          <a:pt x="720" y="528"/>
                        </a:cubicBezTo>
                        <a:cubicBezTo>
                          <a:pt x="744" y="480"/>
                          <a:pt x="768" y="368"/>
                          <a:pt x="768" y="336"/>
                        </a:cubicBezTo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V="1" rot="5400000">
                    <a:off x="3537720" y="2584440"/>
                    <a:ext cx="1663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2">
                        <a:moveTo>
                          <a:pt x="0" y="336"/>
                        </a:moveTo>
                        <a:cubicBezTo>
                          <a:pt x="28" y="216"/>
                          <a:pt x="56" y="96"/>
                          <a:pt x="96" y="48"/>
                        </a:cubicBezTo>
                        <a:cubicBezTo>
                          <a:pt x="136" y="0"/>
                          <a:pt x="200" y="8"/>
                          <a:pt x="240" y="48"/>
                        </a:cubicBezTo>
                        <a:cubicBezTo>
                          <a:pt x="280" y="88"/>
                          <a:pt x="296" y="200"/>
                          <a:pt x="336" y="288"/>
                        </a:cubicBezTo>
                        <a:cubicBezTo>
                          <a:pt x="376" y="376"/>
                          <a:pt x="432" y="520"/>
                          <a:pt x="480" y="576"/>
                        </a:cubicBezTo>
                        <a:cubicBezTo>
                          <a:pt x="528" y="632"/>
                          <a:pt x="584" y="632"/>
                          <a:pt x="624" y="624"/>
                        </a:cubicBezTo>
                        <a:cubicBezTo>
                          <a:pt x="664" y="616"/>
                          <a:pt x="696" y="576"/>
                          <a:pt x="720" y="528"/>
                        </a:cubicBezTo>
                        <a:cubicBezTo>
                          <a:pt x="744" y="480"/>
                          <a:pt x="768" y="368"/>
                          <a:pt x="768" y="336"/>
                        </a:cubicBezTo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flipV="1" rot="5400000">
                    <a:off x="3537720" y="2750760"/>
                    <a:ext cx="1663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2">
                        <a:moveTo>
                          <a:pt x="0" y="336"/>
                        </a:moveTo>
                        <a:cubicBezTo>
                          <a:pt x="28" y="216"/>
                          <a:pt x="56" y="96"/>
                          <a:pt x="96" y="48"/>
                        </a:cubicBezTo>
                        <a:cubicBezTo>
                          <a:pt x="136" y="0"/>
                          <a:pt x="200" y="8"/>
                          <a:pt x="240" y="48"/>
                        </a:cubicBezTo>
                        <a:cubicBezTo>
                          <a:pt x="280" y="88"/>
                          <a:pt x="296" y="200"/>
                          <a:pt x="336" y="288"/>
                        </a:cubicBezTo>
                        <a:cubicBezTo>
                          <a:pt x="376" y="376"/>
                          <a:pt x="432" y="520"/>
                          <a:pt x="480" y="576"/>
                        </a:cubicBezTo>
                        <a:cubicBezTo>
                          <a:pt x="528" y="632"/>
                          <a:pt x="584" y="632"/>
                          <a:pt x="624" y="624"/>
                        </a:cubicBezTo>
                        <a:cubicBezTo>
                          <a:pt x="664" y="616"/>
                          <a:pt x="696" y="576"/>
                          <a:pt x="720" y="528"/>
                        </a:cubicBezTo>
                        <a:cubicBezTo>
                          <a:pt x="744" y="480"/>
                          <a:pt x="768" y="368"/>
                          <a:pt x="768" y="336"/>
                        </a:cubicBezTo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V="1" rot="5400000">
                    <a:off x="3537720" y="2917440"/>
                    <a:ext cx="1663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2">
                        <a:moveTo>
                          <a:pt x="0" y="336"/>
                        </a:moveTo>
                        <a:cubicBezTo>
                          <a:pt x="28" y="216"/>
                          <a:pt x="56" y="96"/>
                          <a:pt x="96" y="48"/>
                        </a:cubicBezTo>
                        <a:cubicBezTo>
                          <a:pt x="136" y="0"/>
                          <a:pt x="200" y="8"/>
                          <a:pt x="240" y="48"/>
                        </a:cubicBezTo>
                        <a:cubicBezTo>
                          <a:pt x="280" y="88"/>
                          <a:pt x="296" y="200"/>
                          <a:pt x="336" y="288"/>
                        </a:cubicBezTo>
                        <a:cubicBezTo>
                          <a:pt x="376" y="376"/>
                          <a:pt x="432" y="520"/>
                          <a:pt x="480" y="576"/>
                        </a:cubicBezTo>
                        <a:cubicBezTo>
                          <a:pt x="528" y="632"/>
                          <a:pt x="584" y="632"/>
                          <a:pt x="624" y="624"/>
                        </a:cubicBezTo>
                        <a:cubicBezTo>
                          <a:pt x="664" y="616"/>
                          <a:pt x="696" y="576"/>
                          <a:pt x="720" y="528"/>
                        </a:cubicBezTo>
                        <a:cubicBezTo>
                          <a:pt x="744" y="480"/>
                          <a:pt x="768" y="368"/>
                          <a:pt x="768" y="336"/>
                        </a:cubicBezTo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3584160" y="3037320"/>
                  <a:ext cx="73440" cy="666000"/>
                  <a:chOff x="3584160" y="3037320"/>
                  <a:chExt cx="73440" cy="66600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 flipV="1" rot="5400000">
                    <a:off x="3537720" y="3083760"/>
                    <a:ext cx="1663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2">
                        <a:moveTo>
                          <a:pt x="0" y="336"/>
                        </a:moveTo>
                        <a:cubicBezTo>
                          <a:pt x="28" y="216"/>
                          <a:pt x="56" y="96"/>
                          <a:pt x="96" y="48"/>
                        </a:cubicBezTo>
                        <a:cubicBezTo>
                          <a:pt x="136" y="0"/>
                          <a:pt x="200" y="8"/>
                          <a:pt x="240" y="48"/>
                        </a:cubicBezTo>
                        <a:cubicBezTo>
                          <a:pt x="280" y="88"/>
                          <a:pt x="296" y="200"/>
                          <a:pt x="336" y="288"/>
                        </a:cubicBezTo>
                        <a:cubicBezTo>
                          <a:pt x="376" y="376"/>
                          <a:pt x="432" y="520"/>
                          <a:pt x="480" y="576"/>
                        </a:cubicBezTo>
                        <a:cubicBezTo>
                          <a:pt x="528" y="632"/>
                          <a:pt x="584" y="632"/>
                          <a:pt x="624" y="624"/>
                        </a:cubicBezTo>
                        <a:cubicBezTo>
                          <a:pt x="664" y="616"/>
                          <a:pt x="696" y="576"/>
                          <a:pt x="720" y="528"/>
                        </a:cubicBezTo>
                        <a:cubicBezTo>
                          <a:pt x="744" y="480"/>
                          <a:pt x="768" y="368"/>
                          <a:pt x="768" y="336"/>
                        </a:cubicBezTo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flipV="1" rot="5400000">
                    <a:off x="3537720" y="3250080"/>
                    <a:ext cx="1663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2">
                        <a:moveTo>
                          <a:pt x="0" y="336"/>
                        </a:moveTo>
                        <a:cubicBezTo>
                          <a:pt x="28" y="216"/>
                          <a:pt x="56" y="96"/>
                          <a:pt x="96" y="48"/>
                        </a:cubicBezTo>
                        <a:cubicBezTo>
                          <a:pt x="136" y="0"/>
                          <a:pt x="200" y="8"/>
                          <a:pt x="240" y="48"/>
                        </a:cubicBezTo>
                        <a:cubicBezTo>
                          <a:pt x="280" y="88"/>
                          <a:pt x="296" y="200"/>
                          <a:pt x="336" y="288"/>
                        </a:cubicBezTo>
                        <a:cubicBezTo>
                          <a:pt x="376" y="376"/>
                          <a:pt x="432" y="520"/>
                          <a:pt x="480" y="576"/>
                        </a:cubicBezTo>
                        <a:cubicBezTo>
                          <a:pt x="528" y="632"/>
                          <a:pt x="584" y="632"/>
                          <a:pt x="624" y="624"/>
                        </a:cubicBezTo>
                        <a:cubicBezTo>
                          <a:pt x="664" y="616"/>
                          <a:pt x="696" y="576"/>
                          <a:pt x="720" y="528"/>
                        </a:cubicBezTo>
                        <a:cubicBezTo>
                          <a:pt x="744" y="480"/>
                          <a:pt x="768" y="368"/>
                          <a:pt x="768" y="336"/>
                        </a:cubicBezTo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V="1" rot="5400000">
                    <a:off x="3537720" y="3416760"/>
                    <a:ext cx="1663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2">
                        <a:moveTo>
                          <a:pt x="0" y="336"/>
                        </a:moveTo>
                        <a:cubicBezTo>
                          <a:pt x="28" y="216"/>
                          <a:pt x="56" y="96"/>
                          <a:pt x="96" y="48"/>
                        </a:cubicBezTo>
                        <a:cubicBezTo>
                          <a:pt x="136" y="0"/>
                          <a:pt x="200" y="8"/>
                          <a:pt x="240" y="48"/>
                        </a:cubicBezTo>
                        <a:cubicBezTo>
                          <a:pt x="280" y="88"/>
                          <a:pt x="296" y="200"/>
                          <a:pt x="336" y="288"/>
                        </a:cubicBezTo>
                        <a:cubicBezTo>
                          <a:pt x="376" y="376"/>
                          <a:pt x="432" y="520"/>
                          <a:pt x="480" y="576"/>
                        </a:cubicBezTo>
                        <a:cubicBezTo>
                          <a:pt x="528" y="632"/>
                          <a:pt x="584" y="632"/>
                          <a:pt x="624" y="624"/>
                        </a:cubicBezTo>
                        <a:cubicBezTo>
                          <a:pt x="664" y="616"/>
                          <a:pt x="696" y="576"/>
                          <a:pt x="720" y="528"/>
                        </a:cubicBezTo>
                        <a:cubicBezTo>
                          <a:pt x="744" y="480"/>
                          <a:pt x="768" y="368"/>
                          <a:pt x="768" y="336"/>
                        </a:cubicBezTo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flipV="1" rot="5400000">
                    <a:off x="3537720" y="3583440"/>
                    <a:ext cx="1663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2">
                        <a:moveTo>
                          <a:pt x="0" y="336"/>
                        </a:moveTo>
                        <a:cubicBezTo>
                          <a:pt x="28" y="216"/>
                          <a:pt x="56" y="96"/>
                          <a:pt x="96" y="48"/>
                        </a:cubicBezTo>
                        <a:cubicBezTo>
                          <a:pt x="136" y="0"/>
                          <a:pt x="200" y="8"/>
                          <a:pt x="240" y="48"/>
                        </a:cubicBezTo>
                        <a:cubicBezTo>
                          <a:pt x="280" y="88"/>
                          <a:pt x="296" y="200"/>
                          <a:pt x="336" y="288"/>
                        </a:cubicBezTo>
                        <a:cubicBezTo>
                          <a:pt x="376" y="376"/>
                          <a:pt x="432" y="520"/>
                          <a:pt x="480" y="576"/>
                        </a:cubicBezTo>
                        <a:cubicBezTo>
                          <a:pt x="528" y="632"/>
                          <a:pt x="584" y="632"/>
                          <a:pt x="624" y="624"/>
                        </a:cubicBezTo>
                        <a:cubicBezTo>
                          <a:pt x="664" y="616"/>
                          <a:pt x="696" y="576"/>
                          <a:pt x="720" y="528"/>
                        </a:cubicBezTo>
                        <a:cubicBezTo>
                          <a:pt x="744" y="480"/>
                          <a:pt x="768" y="368"/>
                          <a:pt x="768" y="336"/>
                        </a:cubicBezTo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9" name=""/>
              <p:cNvGrpSpPr/>
              <p:nvPr/>
            </p:nvGrpSpPr>
            <p:grpSpPr>
              <a:xfrm>
                <a:off x="3582360" y="3691440"/>
                <a:ext cx="73440" cy="666000"/>
                <a:chOff x="3582360" y="3691440"/>
                <a:chExt cx="73440" cy="666000"/>
              </a:xfrm>
            </p:grpSpPr>
            <p:sp>
              <p:nvSpPr>
                <p:cNvPr id="100" name=""/>
                <p:cNvSpPr/>
                <p:nvPr/>
              </p:nvSpPr>
              <p:spPr>
                <a:xfrm flipV="1" rot="5400000">
                  <a:off x="3535920" y="3737880"/>
                  <a:ext cx="166320" cy="73440"/>
                </a:xfrm>
                <a:custGeom>
                  <a:avLst/>
                  <a:gdLst/>
                  <a:ahLst/>
                  <a:rect l="l" t="t" r="r" b="b"/>
                  <a:pathLst>
                    <a:path w="768" h="632">
                      <a:moveTo>
                        <a:pt x="0" y="336"/>
                      </a:moveTo>
                      <a:cubicBezTo>
                        <a:pt x="28" y="216"/>
                        <a:pt x="56" y="96"/>
                        <a:pt x="96" y="48"/>
                      </a:cubicBezTo>
                      <a:cubicBezTo>
                        <a:pt x="136" y="0"/>
                        <a:pt x="200" y="8"/>
                        <a:pt x="240" y="48"/>
                      </a:cubicBezTo>
                      <a:cubicBezTo>
                        <a:pt x="280" y="88"/>
                        <a:pt x="296" y="200"/>
                        <a:pt x="336" y="288"/>
                      </a:cubicBezTo>
                      <a:cubicBezTo>
                        <a:pt x="376" y="376"/>
                        <a:pt x="432" y="520"/>
                        <a:pt x="480" y="576"/>
                      </a:cubicBezTo>
                      <a:cubicBezTo>
                        <a:pt x="528" y="632"/>
                        <a:pt x="584" y="632"/>
                        <a:pt x="624" y="624"/>
                      </a:cubicBezTo>
                      <a:cubicBezTo>
                        <a:pt x="664" y="616"/>
                        <a:pt x="696" y="576"/>
                        <a:pt x="720" y="528"/>
                      </a:cubicBezTo>
                      <a:cubicBezTo>
                        <a:pt x="744" y="480"/>
                        <a:pt x="768" y="368"/>
                        <a:pt x="768" y="336"/>
                      </a:cubicBezTo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V="1" rot="5400000">
                  <a:off x="3535920" y="3904200"/>
                  <a:ext cx="166320" cy="73440"/>
                </a:xfrm>
                <a:custGeom>
                  <a:avLst/>
                  <a:gdLst/>
                  <a:ahLst/>
                  <a:rect l="l" t="t" r="r" b="b"/>
                  <a:pathLst>
                    <a:path w="768" h="632">
                      <a:moveTo>
                        <a:pt x="0" y="336"/>
                      </a:moveTo>
                      <a:cubicBezTo>
                        <a:pt x="28" y="216"/>
                        <a:pt x="56" y="96"/>
                        <a:pt x="96" y="48"/>
                      </a:cubicBezTo>
                      <a:cubicBezTo>
                        <a:pt x="136" y="0"/>
                        <a:pt x="200" y="8"/>
                        <a:pt x="240" y="48"/>
                      </a:cubicBezTo>
                      <a:cubicBezTo>
                        <a:pt x="280" y="88"/>
                        <a:pt x="296" y="200"/>
                        <a:pt x="336" y="288"/>
                      </a:cubicBezTo>
                      <a:cubicBezTo>
                        <a:pt x="376" y="376"/>
                        <a:pt x="432" y="520"/>
                        <a:pt x="480" y="576"/>
                      </a:cubicBezTo>
                      <a:cubicBezTo>
                        <a:pt x="528" y="632"/>
                        <a:pt x="584" y="632"/>
                        <a:pt x="624" y="624"/>
                      </a:cubicBezTo>
                      <a:cubicBezTo>
                        <a:pt x="664" y="616"/>
                        <a:pt x="696" y="576"/>
                        <a:pt x="720" y="528"/>
                      </a:cubicBezTo>
                      <a:cubicBezTo>
                        <a:pt x="744" y="480"/>
                        <a:pt x="768" y="368"/>
                        <a:pt x="768" y="336"/>
                      </a:cubicBezTo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V="1" rot="5400000">
                  <a:off x="3535920" y="4070880"/>
                  <a:ext cx="166320" cy="73440"/>
                </a:xfrm>
                <a:custGeom>
                  <a:avLst/>
                  <a:gdLst/>
                  <a:ahLst/>
                  <a:rect l="l" t="t" r="r" b="b"/>
                  <a:pathLst>
                    <a:path w="768" h="632">
                      <a:moveTo>
                        <a:pt x="0" y="336"/>
                      </a:moveTo>
                      <a:cubicBezTo>
                        <a:pt x="28" y="216"/>
                        <a:pt x="56" y="96"/>
                        <a:pt x="96" y="48"/>
                      </a:cubicBezTo>
                      <a:cubicBezTo>
                        <a:pt x="136" y="0"/>
                        <a:pt x="200" y="8"/>
                        <a:pt x="240" y="48"/>
                      </a:cubicBezTo>
                      <a:cubicBezTo>
                        <a:pt x="280" y="88"/>
                        <a:pt x="296" y="200"/>
                        <a:pt x="336" y="288"/>
                      </a:cubicBezTo>
                      <a:cubicBezTo>
                        <a:pt x="376" y="376"/>
                        <a:pt x="432" y="520"/>
                        <a:pt x="480" y="576"/>
                      </a:cubicBezTo>
                      <a:cubicBezTo>
                        <a:pt x="528" y="632"/>
                        <a:pt x="584" y="632"/>
                        <a:pt x="624" y="624"/>
                      </a:cubicBezTo>
                      <a:cubicBezTo>
                        <a:pt x="664" y="616"/>
                        <a:pt x="696" y="576"/>
                        <a:pt x="720" y="528"/>
                      </a:cubicBezTo>
                      <a:cubicBezTo>
                        <a:pt x="744" y="480"/>
                        <a:pt x="768" y="368"/>
                        <a:pt x="768" y="336"/>
                      </a:cubicBezTo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 rot="5400000">
                  <a:off x="3535920" y="4237560"/>
                  <a:ext cx="166320" cy="73440"/>
                </a:xfrm>
                <a:custGeom>
                  <a:avLst/>
                  <a:gdLst/>
                  <a:ahLst/>
                  <a:rect l="l" t="t" r="r" b="b"/>
                  <a:pathLst>
                    <a:path w="768" h="632">
                      <a:moveTo>
                        <a:pt x="0" y="336"/>
                      </a:moveTo>
                      <a:cubicBezTo>
                        <a:pt x="28" y="216"/>
                        <a:pt x="56" y="96"/>
                        <a:pt x="96" y="48"/>
                      </a:cubicBezTo>
                      <a:cubicBezTo>
                        <a:pt x="136" y="0"/>
                        <a:pt x="200" y="8"/>
                        <a:pt x="240" y="48"/>
                      </a:cubicBezTo>
                      <a:cubicBezTo>
                        <a:pt x="280" y="88"/>
                        <a:pt x="296" y="200"/>
                        <a:pt x="336" y="288"/>
                      </a:cubicBezTo>
                      <a:cubicBezTo>
                        <a:pt x="376" y="376"/>
                        <a:pt x="432" y="520"/>
                        <a:pt x="480" y="576"/>
                      </a:cubicBezTo>
                      <a:cubicBezTo>
                        <a:pt x="528" y="632"/>
                        <a:pt x="584" y="632"/>
                        <a:pt x="624" y="624"/>
                      </a:cubicBezTo>
                      <a:cubicBezTo>
                        <a:pt x="664" y="616"/>
                        <a:pt x="696" y="576"/>
                        <a:pt x="720" y="528"/>
                      </a:cubicBezTo>
                      <a:cubicBezTo>
                        <a:pt x="744" y="480"/>
                        <a:pt x="768" y="368"/>
                        <a:pt x="768" y="336"/>
                      </a:cubicBezTo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 flipV="1" rot="5400000">
                <a:off x="3534840" y="4402440"/>
                <a:ext cx="166320" cy="73440"/>
              </a:xfrm>
              <a:custGeom>
                <a:avLst/>
                <a:gdLst/>
                <a:ahLst/>
                <a:rect l="l" t="t" r="r" b="b"/>
                <a:pathLst>
                  <a:path w="768" h="632">
                    <a:moveTo>
                      <a:pt x="0" y="336"/>
                    </a:moveTo>
                    <a:cubicBezTo>
                      <a:pt x="28" y="216"/>
                      <a:pt x="56" y="96"/>
                      <a:pt x="96" y="48"/>
                    </a:cubicBezTo>
                    <a:cubicBezTo>
                      <a:pt x="136" y="0"/>
                      <a:pt x="200" y="8"/>
                      <a:pt x="240" y="48"/>
                    </a:cubicBezTo>
                    <a:cubicBezTo>
                      <a:pt x="280" y="88"/>
                      <a:pt x="296" y="200"/>
                      <a:pt x="336" y="288"/>
                    </a:cubicBezTo>
                    <a:cubicBezTo>
                      <a:pt x="376" y="376"/>
                      <a:pt x="432" y="520"/>
                      <a:pt x="480" y="576"/>
                    </a:cubicBezTo>
                    <a:cubicBezTo>
                      <a:pt x="528" y="632"/>
                      <a:pt x="584" y="632"/>
                      <a:pt x="624" y="624"/>
                    </a:cubicBezTo>
                    <a:cubicBezTo>
                      <a:pt x="664" y="616"/>
                      <a:pt x="696" y="576"/>
                      <a:pt x="720" y="528"/>
                    </a:cubicBezTo>
                    <a:cubicBezTo>
                      <a:pt x="744" y="480"/>
                      <a:pt x="768" y="368"/>
                      <a:pt x="768" y="336"/>
                    </a:cubicBez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 rot="5400000">
                <a:off x="3534840" y="4569120"/>
                <a:ext cx="166320" cy="73440"/>
              </a:xfrm>
              <a:custGeom>
                <a:avLst/>
                <a:gdLst/>
                <a:ahLst/>
                <a:rect l="l" t="t" r="r" b="b"/>
                <a:pathLst>
                  <a:path w="768" h="632">
                    <a:moveTo>
                      <a:pt x="0" y="336"/>
                    </a:moveTo>
                    <a:cubicBezTo>
                      <a:pt x="28" y="216"/>
                      <a:pt x="56" y="96"/>
                      <a:pt x="96" y="48"/>
                    </a:cubicBezTo>
                    <a:cubicBezTo>
                      <a:pt x="136" y="0"/>
                      <a:pt x="200" y="8"/>
                      <a:pt x="240" y="48"/>
                    </a:cubicBezTo>
                    <a:cubicBezTo>
                      <a:pt x="280" y="88"/>
                      <a:pt x="296" y="200"/>
                      <a:pt x="336" y="288"/>
                    </a:cubicBezTo>
                    <a:cubicBezTo>
                      <a:pt x="376" y="376"/>
                      <a:pt x="432" y="520"/>
                      <a:pt x="480" y="576"/>
                    </a:cubicBezTo>
                    <a:cubicBezTo>
                      <a:pt x="528" y="632"/>
                      <a:pt x="584" y="632"/>
                      <a:pt x="624" y="624"/>
                    </a:cubicBezTo>
                    <a:cubicBezTo>
                      <a:pt x="664" y="616"/>
                      <a:pt x="696" y="576"/>
                      <a:pt x="720" y="528"/>
                    </a:cubicBezTo>
                    <a:cubicBezTo>
                      <a:pt x="744" y="480"/>
                      <a:pt x="768" y="368"/>
                      <a:pt x="768" y="336"/>
                    </a:cubicBez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7345440" y="2371680"/>
              <a:ext cx="75600" cy="2317320"/>
              <a:chOff x="7345440" y="2371680"/>
              <a:chExt cx="75600" cy="231732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7347960" y="2371680"/>
                <a:ext cx="73080" cy="1331640"/>
                <a:chOff x="7347960" y="2371680"/>
                <a:chExt cx="73080" cy="1331640"/>
              </a:xfrm>
            </p:grpSpPr>
            <p:grpSp>
              <p:nvGrpSpPr>
                <p:cNvPr id="108" name=""/>
                <p:cNvGrpSpPr/>
                <p:nvPr/>
              </p:nvGrpSpPr>
              <p:grpSpPr>
                <a:xfrm>
                  <a:off x="7347960" y="2371680"/>
                  <a:ext cx="73080" cy="665640"/>
                  <a:chOff x="7347960" y="2371680"/>
                  <a:chExt cx="73080" cy="66564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 flipV="1" rot="5400000">
                    <a:off x="7301160" y="2418120"/>
                    <a:ext cx="1663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2">
                        <a:moveTo>
                          <a:pt x="0" y="336"/>
                        </a:moveTo>
                        <a:cubicBezTo>
                          <a:pt x="28" y="216"/>
                          <a:pt x="56" y="96"/>
                          <a:pt x="96" y="48"/>
                        </a:cubicBezTo>
                        <a:cubicBezTo>
                          <a:pt x="136" y="0"/>
                          <a:pt x="200" y="8"/>
                          <a:pt x="240" y="48"/>
                        </a:cubicBezTo>
                        <a:cubicBezTo>
                          <a:pt x="280" y="88"/>
                          <a:pt x="296" y="200"/>
                          <a:pt x="336" y="288"/>
                        </a:cubicBezTo>
                        <a:cubicBezTo>
                          <a:pt x="376" y="376"/>
                          <a:pt x="432" y="520"/>
                          <a:pt x="480" y="576"/>
                        </a:cubicBezTo>
                        <a:cubicBezTo>
                          <a:pt x="528" y="632"/>
                          <a:pt x="584" y="632"/>
                          <a:pt x="624" y="624"/>
                        </a:cubicBezTo>
                        <a:cubicBezTo>
                          <a:pt x="664" y="616"/>
                          <a:pt x="696" y="576"/>
                          <a:pt x="720" y="528"/>
                        </a:cubicBezTo>
                        <a:cubicBezTo>
                          <a:pt x="744" y="480"/>
                          <a:pt x="768" y="368"/>
                          <a:pt x="768" y="336"/>
                        </a:cubicBezTo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7301160" y="2584440"/>
                    <a:ext cx="1663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2">
                        <a:moveTo>
                          <a:pt x="0" y="336"/>
                        </a:moveTo>
                        <a:cubicBezTo>
                          <a:pt x="28" y="216"/>
                          <a:pt x="56" y="96"/>
                          <a:pt x="96" y="48"/>
                        </a:cubicBezTo>
                        <a:cubicBezTo>
                          <a:pt x="136" y="0"/>
                          <a:pt x="200" y="8"/>
                          <a:pt x="240" y="48"/>
                        </a:cubicBezTo>
                        <a:cubicBezTo>
                          <a:pt x="280" y="88"/>
                          <a:pt x="296" y="200"/>
                          <a:pt x="336" y="288"/>
                        </a:cubicBezTo>
                        <a:cubicBezTo>
                          <a:pt x="376" y="376"/>
                          <a:pt x="432" y="520"/>
                          <a:pt x="480" y="576"/>
                        </a:cubicBezTo>
                        <a:cubicBezTo>
                          <a:pt x="528" y="632"/>
                          <a:pt x="584" y="632"/>
                          <a:pt x="624" y="624"/>
                        </a:cubicBezTo>
                        <a:cubicBezTo>
                          <a:pt x="664" y="616"/>
                          <a:pt x="696" y="576"/>
                          <a:pt x="720" y="528"/>
                        </a:cubicBezTo>
                        <a:cubicBezTo>
                          <a:pt x="744" y="480"/>
                          <a:pt x="768" y="368"/>
                          <a:pt x="768" y="336"/>
                        </a:cubicBezTo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V="1" rot="5400000">
                    <a:off x="7301160" y="2750760"/>
                    <a:ext cx="1663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2">
                        <a:moveTo>
                          <a:pt x="0" y="336"/>
                        </a:moveTo>
                        <a:cubicBezTo>
                          <a:pt x="28" y="216"/>
                          <a:pt x="56" y="96"/>
                          <a:pt x="96" y="48"/>
                        </a:cubicBezTo>
                        <a:cubicBezTo>
                          <a:pt x="136" y="0"/>
                          <a:pt x="200" y="8"/>
                          <a:pt x="240" y="48"/>
                        </a:cubicBezTo>
                        <a:cubicBezTo>
                          <a:pt x="280" y="88"/>
                          <a:pt x="296" y="200"/>
                          <a:pt x="336" y="288"/>
                        </a:cubicBezTo>
                        <a:cubicBezTo>
                          <a:pt x="376" y="376"/>
                          <a:pt x="432" y="520"/>
                          <a:pt x="480" y="576"/>
                        </a:cubicBezTo>
                        <a:cubicBezTo>
                          <a:pt x="528" y="632"/>
                          <a:pt x="584" y="632"/>
                          <a:pt x="624" y="624"/>
                        </a:cubicBezTo>
                        <a:cubicBezTo>
                          <a:pt x="664" y="616"/>
                          <a:pt x="696" y="576"/>
                          <a:pt x="720" y="528"/>
                        </a:cubicBezTo>
                        <a:cubicBezTo>
                          <a:pt x="744" y="480"/>
                          <a:pt x="768" y="368"/>
                          <a:pt x="768" y="336"/>
                        </a:cubicBezTo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V="1" rot="5400000">
                    <a:off x="7301160" y="2917440"/>
                    <a:ext cx="1663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2">
                        <a:moveTo>
                          <a:pt x="0" y="336"/>
                        </a:moveTo>
                        <a:cubicBezTo>
                          <a:pt x="28" y="216"/>
                          <a:pt x="56" y="96"/>
                          <a:pt x="96" y="48"/>
                        </a:cubicBezTo>
                        <a:cubicBezTo>
                          <a:pt x="136" y="0"/>
                          <a:pt x="200" y="8"/>
                          <a:pt x="240" y="48"/>
                        </a:cubicBezTo>
                        <a:cubicBezTo>
                          <a:pt x="280" y="88"/>
                          <a:pt x="296" y="200"/>
                          <a:pt x="336" y="288"/>
                        </a:cubicBezTo>
                        <a:cubicBezTo>
                          <a:pt x="376" y="376"/>
                          <a:pt x="432" y="520"/>
                          <a:pt x="480" y="576"/>
                        </a:cubicBezTo>
                        <a:cubicBezTo>
                          <a:pt x="528" y="632"/>
                          <a:pt x="584" y="632"/>
                          <a:pt x="624" y="624"/>
                        </a:cubicBezTo>
                        <a:cubicBezTo>
                          <a:pt x="664" y="616"/>
                          <a:pt x="696" y="576"/>
                          <a:pt x="720" y="528"/>
                        </a:cubicBezTo>
                        <a:cubicBezTo>
                          <a:pt x="744" y="480"/>
                          <a:pt x="768" y="368"/>
                          <a:pt x="768" y="336"/>
                        </a:cubicBezTo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347960" y="3037320"/>
                  <a:ext cx="73080" cy="666000"/>
                  <a:chOff x="7347960" y="3037320"/>
                  <a:chExt cx="73080" cy="6660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flipV="1" rot="5400000">
                    <a:off x="7301160" y="3083760"/>
                    <a:ext cx="1663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2">
                        <a:moveTo>
                          <a:pt x="0" y="336"/>
                        </a:moveTo>
                        <a:cubicBezTo>
                          <a:pt x="28" y="216"/>
                          <a:pt x="56" y="96"/>
                          <a:pt x="96" y="48"/>
                        </a:cubicBezTo>
                        <a:cubicBezTo>
                          <a:pt x="136" y="0"/>
                          <a:pt x="200" y="8"/>
                          <a:pt x="240" y="48"/>
                        </a:cubicBezTo>
                        <a:cubicBezTo>
                          <a:pt x="280" y="88"/>
                          <a:pt x="296" y="200"/>
                          <a:pt x="336" y="288"/>
                        </a:cubicBezTo>
                        <a:cubicBezTo>
                          <a:pt x="376" y="376"/>
                          <a:pt x="432" y="520"/>
                          <a:pt x="480" y="576"/>
                        </a:cubicBezTo>
                        <a:cubicBezTo>
                          <a:pt x="528" y="632"/>
                          <a:pt x="584" y="632"/>
                          <a:pt x="624" y="624"/>
                        </a:cubicBezTo>
                        <a:cubicBezTo>
                          <a:pt x="664" y="616"/>
                          <a:pt x="696" y="576"/>
                          <a:pt x="720" y="528"/>
                        </a:cubicBezTo>
                        <a:cubicBezTo>
                          <a:pt x="744" y="480"/>
                          <a:pt x="768" y="368"/>
                          <a:pt x="768" y="336"/>
                        </a:cubicBezTo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V="1" rot="5400000">
                    <a:off x="7301160" y="3250080"/>
                    <a:ext cx="1663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2">
                        <a:moveTo>
                          <a:pt x="0" y="336"/>
                        </a:moveTo>
                        <a:cubicBezTo>
                          <a:pt x="28" y="216"/>
                          <a:pt x="56" y="96"/>
                          <a:pt x="96" y="48"/>
                        </a:cubicBezTo>
                        <a:cubicBezTo>
                          <a:pt x="136" y="0"/>
                          <a:pt x="200" y="8"/>
                          <a:pt x="240" y="48"/>
                        </a:cubicBezTo>
                        <a:cubicBezTo>
                          <a:pt x="280" y="88"/>
                          <a:pt x="296" y="200"/>
                          <a:pt x="336" y="288"/>
                        </a:cubicBezTo>
                        <a:cubicBezTo>
                          <a:pt x="376" y="376"/>
                          <a:pt x="432" y="520"/>
                          <a:pt x="480" y="576"/>
                        </a:cubicBezTo>
                        <a:cubicBezTo>
                          <a:pt x="528" y="632"/>
                          <a:pt x="584" y="632"/>
                          <a:pt x="624" y="624"/>
                        </a:cubicBezTo>
                        <a:cubicBezTo>
                          <a:pt x="664" y="616"/>
                          <a:pt x="696" y="576"/>
                          <a:pt x="720" y="528"/>
                        </a:cubicBezTo>
                        <a:cubicBezTo>
                          <a:pt x="744" y="480"/>
                          <a:pt x="768" y="368"/>
                          <a:pt x="768" y="336"/>
                        </a:cubicBezTo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flipV="1" rot="5400000">
                    <a:off x="7301160" y="3416760"/>
                    <a:ext cx="1663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2">
                        <a:moveTo>
                          <a:pt x="0" y="336"/>
                        </a:moveTo>
                        <a:cubicBezTo>
                          <a:pt x="28" y="216"/>
                          <a:pt x="56" y="96"/>
                          <a:pt x="96" y="48"/>
                        </a:cubicBezTo>
                        <a:cubicBezTo>
                          <a:pt x="136" y="0"/>
                          <a:pt x="200" y="8"/>
                          <a:pt x="240" y="48"/>
                        </a:cubicBezTo>
                        <a:cubicBezTo>
                          <a:pt x="280" y="88"/>
                          <a:pt x="296" y="200"/>
                          <a:pt x="336" y="288"/>
                        </a:cubicBezTo>
                        <a:cubicBezTo>
                          <a:pt x="376" y="376"/>
                          <a:pt x="432" y="520"/>
                          <a:pt x="480" y="576"/>
                        </a:cubicBezTo>
                        <a:cubicBezTo>
                          <a:pt x="528" y="632"/>
                          <a:pt x="584" y="632"/>
                          <a:pt x="624" y="624"/>
                        </a:cubicBezTo>
                        <a:cubicBezTo>
                          <a:pt x="664" y="616"/>
                          <a:pt x="696" y="576"/>
                          <a:pt x="720" y="528"/>
                        </a:cubicBezTo>
                        <a:cubicBezTo>
                          <a:pt x="744" y="480"/>
                          <a:pt x="768" y="368"/>
                          <a:pt x="768" y="336"/>
                        </a:cubicBezTo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flipV="1" rot="5400000">
                    <a:off x="7301160" y="3583440"/>
                    <a:ext cx="1663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632">
                        <a:moveTo>
                          <a:pt x="0" y="336"/>
                        </a:moveTo>
                        <a:cubicBezTo>
                          <a:pt x="28" y="216"/>
                          <a:pt x="56" y="96"/>
                          <a:pt x="96" y="48"/>
                        </a:cubicBezTo>
                        <a:cubicBezTo>
                          <a:pt x="136" y="0"/>
                          <a:pt x="200" y="8"/>
                          <a:pt x="240" y="48"/>
                        </a:cubicBezTo>
                        <a:cubicBezTo>
                          <a:pt x="280" y="88"/>
                          <a:pt x="296" y="200"/>
                          <a:pt x="336" y="288"/>
                        </a:cubicBezTo>
                        <a:cubicBezTo>
                          <a:pt x="376" y="376"/>
                          <a:pt x="432" y="520"/>
                          <a:pt x="480" y="576"/>
                        </a:cubicBezTo>
                        <a:cubicBezTo>
                          <a:pt x="528" y="632"/>
                          <a:pt x="584" y="632"/>
                          <a:pt x="624" y="624"/>
                        </a:cubicBezTo>
                        <a:cubicBezTo>
                          <a:pt x="664" y="616"/>
                          <a:pt x="696" y="576"/>
                          <a:pt x="720" y="528"/>
                        </a:cubicBezTo>
                        <a:cubicBezTo>
                          <a:pt x="744" y="480"/>
                          <a:pt x="768" y="368"/>
                          <a:pt x="768" y="336"/>
                        </a:cubicBezTo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8" name=""/>
              <p:cNvGrpSpPr/>
              <p:nvPr/>
            </p:nvGrpSpPr>
            <p:grpSpPr>
              <a:xfrm>
                <a:off x="7346520" y="3691440"/>
                <a:ext cx="73440" cy="666000"/>
                <a:chOff x="7346520" y="3691440"/>
                <a:chExt cx="73440" cy="666000"/>
              </a:xfrm>
            </p:grpSpPr>
            <p:sp>
              <p:nvSpPr>
                <p:cNvPr id="119" name=""/>
                <p:cNvSpPr/>
                <p:nvPr/>
              </p:nvSpPr>
              <p:spPr>
                <a:xfrm flipV="1" rot="5400000">
                  <a:off x="7300080" y="3737880"/>
                  <a:ext cx="166320" cy="73440"/>
                </a:xfrm>
                <a:custGeom>
                  <a:avLst/>
                  <a:gdLst/>
                  <a:ahLst/>
                  <a:rect l="l" t="t" r="r" b="b"/>
                  <a:pathLst>
                    <a:path w="768" h="632">
                      <a:moveTo>
                        <a:pt x="0" y="336"/>
                      </a:moveTo>
                      <a:cubicBezTo>
                        <a:pt x="28" y="216"/>
                        <a:pt x="56" y="96"/>
                        <a:pt x="96" y="48"/>
                      </a:cubicBezTo>
                      <a:cubicBezTo>
                        <a:pt x="136" y="0"/>
                        <a:pt x="200" y="8"/>
                        <a:pt x="240" y="48"/>
                      </a:cubicBezTo>
                      <a:cubicBezTo>
                        <a:pt x="280" y="88"/>
                        <a:pt x="296" y="200"/>
                        <a:pt x="336" y="288"/>
                      </a:cubicBezTo>
                      <a:cubicBezTo>
                        <a:pt x="376" y="376"/>
                        <a:pt x="432" y="520"/>
                        <a:pt x="480" y="576"/>
                      </a:cubicBezTo>
                      <a:cubicBezTo>
                        <a:pt x="528" y="632"/>
                        <a:pt x="584" y="632"/>
                        <a:pt x="624" y="624"/>
                      </a:cubicBezTo>
                      <a:cubicBezTo>
                        <a:pt x="664" y="616"/>
                        <a:pt x="696" y="576"/>
                        <a:pt x="720" y="528"/>
                      </a:cubicBezTo>
                      <a:cubicBezTo>
                        <a:pt x="744" y="480"/>
                        <a:pt x="768" y="368"/>
                        <a:pt x="768" y="336"/>
                      </a:cubicBezTo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V="1" rot="5400000">
                  <a:off x="7300080" y="3904200"/>
                  <a:ext cx="166320" cy="73440"/>
                </a:xfrm>
                <a:custGeom>
                  <a:avLst/>
                  <a:gdLst/>
                  <a:ahLst/>
                  <a:rect l="l" t="t" r="r" b="b"/>
                  <a:pathLst>
                    <a:path w="768" h="632">
                      <a:moveTo>
                        <a:pt x="0" y="336"/>
                      </a:moveTo>
                      <a:cubicBezTo>
                        <a:pt x="28" y="216"/>
                        <a:pt x="56" y="96"/>
                        <a:pt x="96" y="48"/>
                      </a:cubicBezTo>
                      <a:cubicBezTo>
                        <a:pt x="136" y="0"/>
                        <a:pt x="200" y="8"/>
                        <a:pt x="240" y="48"/>
                      </a:cubicBezTo>
                      <a:cubicBezTo>
                        <a:pt x="280" y="88"/>
                        <a:pt x="296" y="200"/>
                        <a:pt x="336" y="288"/>
                      </a:cubicBezTo>
                      <a:cubicBezTo>
                        <a:pt x="376" y="376"/>
                        <a:pt x="432" y="520"/>
                        <a:pt x="480" y="576"/>
                      </a:cubicBezTo>
                      <a:cubicBezTo>
                        <a:pt x="528" y="632"/>
                        <a:pt x="584" y="632"/>
                        <a:pt x="624" y="624"/>
                      </a:cubicBezTo>
                      <a:cubicBezTo>
                        <a:pt x="664" y="616"/>
                        <a:pt x="696" y="576"/>
                        <a:pt x="720" y="528"/>
                      </a:cubicBezTo>
                      <a:cubicBezTo>
                        <a:pt x="744" y="480"/>
                        <a:pt x="768" y="368"/>
                        <a:pt x="768" y="336"/>
                      </a:cubicBezTo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V="1" rot="5400000">
                  <a:off x="7300080" y="4070880"/>
                  <a:ext cx="166320" cy="73440"/>
                </a:xfrm>
                <a:custGeom>
                  <a:avLst/>
                  <a:gdLst/>
                  <a:ahLst/>
                  <a:rect l="l" t="t" r="r" b="b"/>
                  <a:pathLst>
                    <a:path w="768" h="632">
                      <a:moveTo>
                        <a:pt x="0" y="336"/>
                      </a:moveTo>
                      <a:cubicBezTo>
                        <a:pt x="28" y="216"/>
                        <a:pt x="56" y="96"/>
                        <a:pt x="96" y="48"/>
                      </a:cubicBezTo>
                      <a:cubicBezTo>
                        <a:pt x="136" y="0"/>
                        <a:pt x="200" y="8"/>
                        <a:pt x="240" y="48"/>
                      </a:cubicBezTo>
                      <a:cubicBezTo>
                        <a:pt x="280" y="88"/>
                        <a:pt x="296" y="200"/>
                        <a:pt x="336" y="288"/>
                      </a:cubicBezTo>
                      <a:cubicBezTo>
                        <a:pt x="376" y="376"/>
                        <a:pt x="432" y="520"/>
                        <a:pt x="480" y="576"/>
                      </a:cubicBezTo>
                      <a:cubicBezTo>
                        <a:pt x="528" y="632"/>
                        <a:pt x="584" y="632"/>
                        <a:pt x="624" y="624"/>
                      </a:cubicBezTo>
                      <a:cubicBezTo>
                        <a:pt x="664" y="616"/>
                        <a:pt x="696" y="576"/>
                        <a:pt x="720" y="528"/>
                      </a:cubicBezTo>
                      <a:cubicBezTo>
                        <a:pt x="744" y="480"/>
                        <a:pt x="768" y="368"/>
                        <a:pt x="768" y="336"/>
                      </a:cubicBezTo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V="1" rot="5400000">
                  <a:off x="7300080" y="4237560"/>
                  <a:ext cx="166320" cy="73440"/>
                </a:xfrm>
                <a:custGeom>
                  <a:avLst/>
                  <a:gdLst/>
                  <a:ahLst/>
                  <a:rect l="l" t="t" r="r" b="b"/>
                  <a:pathLst>
                    <a:path w="768" h="632">
                      <a:moveTo>
                        <a:pt x="0" y="336"/>
                      </a:moveTo>
                      <a:cubicBezTo>
                        <a:pt x="28" y="216"/>
                        <a:pt x="56" y="96"/>
                        <a:pt x="96" y="48"/>
                      </a:cubicBezTo>
                      <a:cubicBezTo>
                        <a:pt x="136" y="0"/>
                        <a:pt x="200" y="8"/>
                        <a:pt x="240" y="48"/>
                      </a:cubicBezTo>
                      <a:cubicBezTo>
                        <a:pt x="280" y="88"/>
                        <a:pt x="296" y="200"/>
                        <a:pt x="336" y="288"/>
                      </a:cubicBezTo>
                      <a:cubicBezTo>
                        <a:pt x="376" y="376"/>
                        <a:pt x="432" y="520"/>
                        <a:pt x="480" y="576"/>
                      </a:cubicBezTo>
                      <a:cubicBezTo>
                        <a:pt x="528" y="632"/>
                        <a:pt x="584" y="632"/>
                        <a:pt x="624" y="624"/>
                      </a:cubicBezTo>
                      <a:cubicBezTo>
                        <a:pt x="664" y="616"/>
                        <a:pt x="696" y="576"/>
                        <a:pt x="720" y="528"/>
                      </a:cubicBezTo>
                      <a:cubicBezTo>
                        <a:pt x="744" y="480"/>
                        <a:pt x="768" y="368"/>
                        <a:pt x="768" y="336"/>
                      </a:cubicBezTo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 flipV="1" rot="5400000">
                <a:off x="7298640" y="4402440"/>
                <a:ext cx="166320" cy="73080"/>
              </a:xfrm>
              <a:custGeom>
                <a:avLst/>
                <a:gdLst/>
                <a:ahLst/>
                <a:rect l="l" t="t" r="r" b="b"/>
                <a:pathLst>
                  <a:path w="768" h="632">
                    <a:moveTo>
                      <a:pt x="0" y="336"/>
                    </a:moveTo>
                    <a:cubicBezTo>
                      <a:pt x="28" y="216"/>
                      <a:pt x="56" y="96"/>
                      <a:pt x="96" y="48"/>
                    </a:cubicBezTo>
                    <a:cubicBezTo>
                      <a:pt x="136" y="0"/>
                      <a:pt x="200" y="8"/>
                      <a:pt x="240" y="48"/>
                    </a:cubicBezTo>
                    <a:cubicBezTo>
                      <a:pt x="280" y="88"/>
                      <a:pt x="296" y="200"/>
                      <a:pt x="336" y="288"/>
                    </a:cubicBezTo>
                    <a:cubicBezTo>
                      <a:pt x="376" y="376"/>
                      <a:pt x="432" y="520"/>
                      <a:pt x="480" y="576"/>
                    </a:cubicBezTo>
                    <a:cubicBezTo>
                      <a:pt x="528" y="632"/>
                      <a:pt x="584" y="632"/>
                      <a:pt x="624" y="624"/>
                    </a:cubicBezTo>
                    <a:cubicBezTo>
                      <a:pt x="664" y="616"/>
                      <a:pt x="696" y="576"/>
                      <a:pt x="720" y="528"/>
                    </a:cubicBezTo>
                    <a:cubicBezTo>
                      <a:pt x="744" y="480"/>
                      <a:pt x="768" y="368"/>
                      <a:pt x="768" y="336"/>
                    </a:cubicBez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5400000">
                <a:off x="7298640" y="4569120"/>
                <a:ext cx="166320" cy="73080"/>
              </a:xfrm>
              <a:custGeom>
                <a:avLst/>
                <a:gdLst/>
                <a:ahLst/>
                <a:rect l="l" t="t" r="r" b="b"/>
                <a:pathLst>
                  <a:path w="768" h="632">
                    <a:moveTo>
                      <a:pt x="0" y="336"/>
                    </a:moveTo>
                    <a:cubicBezTo>
                      <a:pt x="28" y="216"/>
                      <a:pt x="56" y="96"/>
                      <a:pt x="96" y="48"/>
                    </a:cubicBezTo>
                    <a:cubicBezTo>
                      <a:pt x="136" y="0"/>
                      <a:pt x="200" y="8"/>
                      <a:pt x="240" y="48"/>
                    </a:cubicBezTo>
                    <a:cubicBezTo>
                      <a:pt x="280" y="88"/>
                      <a:pt x="296" y="200"/>
                      <a:pt x="336" y="288"/>
                    </a:cubicBezTo>
                    <a:cubicBezTo>
                      <a:pt x="376" y="376"/>
                      <a:pt x="432" y="520"/>
                      <a:pt x="480" y="576"/>
                    </a:cubicBezTo>
                    <a:cubicBezTo>
                      <a:pt x="528" y="632"/>
                      <a:pt x="584" y="632"/>
                      <a:pt x="624" y="624"/>
                    </a:cubicBezTo>
                    <a:cubicBezTo>
                      <a:pt x="664" y="616"/>
                      <a:pt x="696" y="576"/>
                      <a:pt x="720" y="528"/>
                    </a:cubicBezTo>
                    <a:cubicBezTo>
                      <a:pt x="744" y="480"/>
                      <a:pt x="768" y="368"/>
                      <a:pt x="768" y="336"/>
                    </a:cubicBez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25" name=""/>
            <p:cNvCxnSpPr>
              <a:stCxn id="56" idx="2"/>
              <a:endCxn id="71" idx="0"/>
            </p:cNvCxnSpPr>
            <p:nvPr/>
          </p:nvCxnSpPr>
          <p:spPr>
            <a:xfrm rot="5400000">
              <a:off x="2162880" y="1803240"/>
              <a:ext cx="776880" cy="322920"/>
            </a:xfrm>
            <a:prstGeom prst="curvedConnector5">
              <a:avLst>
                <a:gd name="adj1" fmla="val 51043"/>
                <a:gd name="adj2" fmla="val 50000"/>
                <a:gd name="adj3" fmla="val 5104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"/>
            <p:cNvCxnSpPr>
              <a:stCxn id="67" idx="2"/>
              <a:endCxn id="90" idx="0"/>
            </p:cNvCxnSpPr>
            <p:nvPr/>
          </p:nvCxnSpPr>
          <p:spPr>
            <a:xfrm rot="5400000">
              <a:off x="3321000" y="1875600"/>
              <a:ext cx="776880" cy="178200"/>
            </a:xfrm>
            <a:prstGeom prst="curvedConnector5">
              <a:avLst>
                <a:gd name="adj1" fmla="val 51043"/>
                <a:gd name="adj2" fmla="val 50000"/>
                <a:gd name="adj3" fmla="val 5104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"/>
            <p:cNvCxnSpPr>
              <a:stCxn id="86" idx="0"/>
              <a:endCxn id="128" idx="0"/>
            </p:cNvCxnSpPr>
            <p:nvPr/>
          </p:nvCxnSpPr>
          <p:spPr>
            <a:xfrm flipH="1" rot="16200000">
              <a:off x="2143080" y="4966920"/>
              <a:ext cx="1016640" cy="480240"/>
            </a:xfrm>
            <a:prstGeom prst="curvedConnector5">
              <a:avLst>
                <a:gd name="adj1" fmla="val 49521"/>
                <a:gd name="adj2" fmla="val 49962"/>
                <a:gd name="adj3" fmla="val 4952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05" idx="0"/>
              <a:endCxn id="51" idx="0"/>
            </p:cNvCxnSpPr>
            <p:nvPr/>
          </p:nvCxnSpPr>
          <p:spPr>
            <a:xfrm flipH="1" rot="16200000">
              <a:off x="4224240" y="4102560"/>
              <a:ext cx="983160" cy="2191320"/>
            </a:xfrm>
            <a:prstGeom prst="curvedConnector5">
              <a:avLst>
                <a:gd name="adj1" fmla="val 49084"/>
                <a:gd name="adj2" fmla="val 50000"/>
                <a:gd name="adj3" fmla="val 49084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0"/>
              <a:endCxn id="52" idx="3"/>
            </p:cNvCxnSpPr>
            <p:nvPr/>
          </p:nvCxnSpPr>
          <p:spPr>
            <a:xfrm rot="5400000">
              <a:off x="6065640" y="4748760"/>
              <a:ext cx="1393200" cy="12898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57" idx="2"/>
              <a:endCxn id="109" idx="0"/>
            </p:cNvCxnSpPr>
            <p:nvPr/>
          </p:nvCxnSpPr>
          <p:spPr>
            <a:xfrm rot="5400000">
              <a:off x="7048440" y="1911960"/>
              <a:ext cx="776880" cy="105480"/>
            </a:xfrm>
            <a:prstGeom prst="curvedConnector5">
              <a:avLst>
                <a:gd name="adj1" fmla="val 51043"/>
                <a:gd name="adj2" fmla="val 50000"/>
                <a:gd name="adj3" fmla="val 5104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734640" y="5105520"/>
              <a:ext cx="10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cces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22440" y="2835360"/>
              <a:ext cx="119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xec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hrea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5715000"/>
              <a:ext cx="903240" cy="53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840" y="601992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Data Ca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168640" y="5705640"/>
              <a:ext cx="152280" cy="457200"/>
              <a:chOff x="2168640" y="5705640"/>
              <a:chExt cx="152280" cy="457200"/>
            </a:xfrm>
          </p:grpSpPr>
          <p:sp>
            <p:nvSpPr>
              <p:cNvPr id="136" name=""/>
              <p:cNvSpPr/>
              <p:nvPr/>
            </p:nvSpPr>
            <p:spPr>
              <a:xfrm>
                <a:off x="2168640" y="57056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68640" y="58579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168640" y="60102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168640" y="61628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616200" y="5705640"/>
              <a:ext cx="152280" cy="457200"/>
              <a:chOff x="3616200" y="5705640"/>
              <a:chExt cx="152280" cy="457200"/>
            </a:xfrm>
          </p:grpSpPr>
          <p:sp>
            <p:nvSpPr>
              <p:cNvPr id="141" name=""/>
              <p:cNvSpPr/>
              <p:nvPr/>
            </p:nvSpPr>
            <p:spPr>
              <a:xfrm>
                <a:off x="3616200" y="57056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616200" y="58579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616200" y="60102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616200" y="61628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2701800" y="5324400"/>
              <a:ext cx="457200" cy="152280"/>
              <a:chOff x="2701800" y="5324400"/>
              <a:chExt cx="457200" cy="152280"/>
            </a:xfrm>
          </p:grpSpPr>
          <p:sp>
            <p:nvSpPr>
              <p:cNvPr id="146" name=""/>
              <p:cNvSpPr/>
              <p:nvPr/>
            </p:nvSpPr>
            <p:spPr>
              <a:xfrm>
                <a:off x="3159000" y="5324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006720" y="5324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54440" y="5324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701800" y="53244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2701800" y="6315120"/>
              <a:ext cx="457200" cy="152280"/>
              <a:chOff x="2701800" y="6315120"/>
              <a:chExt cx="457200" cy="152280"/>
            </a:xfrm>
          </p:grpSpPr>
          <p:sp>
            <p:nvSpPr>
              <p:cNvPr id="151" name=""/>
              <p:cNvSpPr/>
              <p:nvPr/>
            </p:nvSpPr>
            <p:spPr>
              <a:xfrm>
                <a:off x="3159000" y="6315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006720" y="6315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54440" y="6315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701800" y="6315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A46-F20F-44DF-8ED6-80209CED78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ispiel: Einfügen in B*-Baum mit Wurzel-Spl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228600" y="838080"/>
            <a:ext cx="8609040" cy="5750640"/>
            <a:chOff x="228600" y="838080"/>
            <a:chExt cx="8609040" cy="5750640"/>
          </a:xfrm>
        </p:grpSpPr>
        <p:sp>
          <p:nvSpPr>
            <p:cNvPr id="939" name=""/>
            <p:cNvSpPr/>
            <p:nvPr/>
          </p:nvSpPr>
          <p:spPr>
            <a:xfrm>
              <a:off x="4266360" y="3512160"/>
              <a:ext cx="304560" cy="326160"/>
            </a:xfrm>
            <a:prstGeom prst="downArrow">
              <a:avLst>
                <a:gd name="adj1" fmla="val 50000"/>
                <a:gd name="adj2" fmla="val 2677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362680" y="3520800"/>
              <a:ext cx="178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ot Node Spl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42680" y="838080"/>
              <a:ext cx="304200" cy="325800"/>
            </a:xfrm>
            <a:prstGeom prst="downArrow">
              <a:avLst>
                <a:gd name="adj1" fmla="val 50000"/>
                <a:gd name="adj2" fmla="val 2677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555080" y="84744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+ Bet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04200" y="2390040"/>
              <a:ext cx="8456760" cy="105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28600" y="1229400"/>
              <a:ext cx="8609040" cy="1173960"/>
            </a:xfrm>
            <a:prstGeom prst="triangle">
              <a:avLst>
                <a:gd name="adj" fmla="val 50000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95000" y="2390040"/>
              <a:ext cx="44388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13280" y="24688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d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939240" y="2390040"/>
              <a:ext cx="444240" cy="415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383840" y="2390040"/>
              <a:ext cx="44424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828440" y="2390040"/>
              <a:ext cx="443880" cy="415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914040" y="246888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et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93240" y="2390040"/>
              <a:ext cx="44424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743200" y="24688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37840" y="2390040"/>
              <a:ext cx="44388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682080" y="2390040"/>
              <a:ext cx="44424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126680" y="2390040"/>
              <a:ext cx="44424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95000" y="2390040"/>
              <a:ext cx="1777320" cy="41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199680" y="246888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l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793240" y="2390040"/>
              <a:ext cx="1777680" cy="41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837680" y="2403360"/>
              <a:ext cx="44388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774680" y="248220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281920" y="2403360"/>
              <a:ext cx="44424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726520" y="2403360"/>
              <a:ext cx="44424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171120" y="2403360"/>
              <a:ext cx="44388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231160" y="2482200"/>
              <a:ext cx="57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37680" y="2403360"/>
              <a:ext cx="1777320" cy="41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818400" y="2403360"/>
              <a:ext cx="44424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823800" y="248220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263000" y="2403360"/>
              <a:ext cx="44388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707240" y="2403360"/>
              <a:ext cx="44424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151840" y="2403360"/>
              <a:ext cx="44424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280640" y="24822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818400" y="2403360"/>
              <a:ext cx="1777680" cy="41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47200" y="24688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764320" y="2482200"/>
              <a:ext cx="40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517200" y="1704960"/>
              <a:ext cx="443880" cy="415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504960" y="1744200"/>
              <a:ext cx="48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961440" y="1704960"/>
              <a:ext cx="444240" cy="41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406040" y="1704960"/>
              <a:ext cx="444240" cy="41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850280" y="1704960"/>
              <a:ext cx="444240" cy="41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037760" y="1744200"/>
              <a:ext cx="55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517200" y="1704960"/>
              <a:ext cx="1777680" cy="415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418640" y="1744200"/>
              <a:ext cx="71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3732480" y="1882800"/>
              <a:ext cx="355320" cy="52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494960" y="1946880"/>
              <a:ext cx="121896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683160" y="246888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951800" y="1946880"/>
              <a:ext cx="274248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015560" y="2925360"/>
              <a:ext cx="444240" cy="415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933480" y="300564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o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460160" y="2925360"/>
              <a:ext cx="443880" cy="415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904400" y="2925360"/>
              <a:ext cx="444240" cy="4158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349000" y="2925360"/>
              <a:ext cx="444240" cy="4158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435320" y="3005640"/>
              <a:ext cx="48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015560" y="2925360"/>
              <a:ext cx="1777680" cy="415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047040" y="1685880"/>
              <a:ext cx="444240" cy="4154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047040" y="175104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1904040" y="1946880"/>
              <a:ext cx="1828440" cy="97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1370880" y="1946880"/>
              <a:ext cx="182844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04200" y="4947480"/>
              <a:ext cx="8456760" cy="1578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04200" y="3903840"/>
              <a:ext cx="8456760" cy="1043640"/>
            </a:xfrm>
            <a:prstGeom prst="triangle">
              <a:avLst>
                <a:gd name="adj" fmla="val 50000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8680" y="5586480"/>
              <a:ext cx="44424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36960" y="566496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d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63280" y="5586480"/>
              <a:ext cx="44388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307520" y="5586480"/>
              <a:ext cx="44424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52120" y="5586480"/>
              <a:ext cx="44424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37720" y="56649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et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716920" y="5586480"/>
              <a:ext cx="44424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666880" y="56649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161520" y="5586480"/>
              <a:ext cx="44424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606120" y="5586480"/>
              <a:ext cx="44388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50360" y="5586480"/>
              <a:ext cx="44424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18680" y="5586480"/>
              <a:ext cx="1777680" cy="41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123360" y="566496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l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716920" y="5586480"/>
              <a:ext cx="1777680" cy="41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862880" y="5586480"/>
              <a:ext cx="44424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800240" y="566496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07480" y="5586480"/>
              <a:ext cx="44424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752080" y="5586480"/>
              <a:ext cx="44388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196320" y="5586480"/>
              <a:ext cx="44424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256720" y="5664960"/>
              <a:ext cx="57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862880" y="5586480"/>
              <a:ext cx="1777680" cy="41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742080" y="5599800"/>
              <a:ext cx="44424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747480" y="567864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186680" y="5599800"/>
              <a:ext cx="44424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631280" y="5599800"/>
              <a:ext cx="44388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075520" y="5599800"/>
              <a:ext cx="444240" cy="41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204320" y="567864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742080" y="5599800"/>
              <a:ext cx="1777680" cy="41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371240" y="56649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789880" y="5664960"/>
              <a:ext cx="40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475720" y="4888800"/>
              <a:ext cx="444240" cy="4158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463120" y="494748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20320" y="4888800"/>
              <a:ext cx="443880" cy="41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364560" y="4888800"/>
              <a:ext cx="444240" cy="41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809160" y="4888800"/>
              <a:ext cx="444240" cy="41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894760" y="4947480"/>
              <a:ext cx="55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475720" y="4888800"/>
              <a:ext cx="1777680" cy="415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608640" y="566496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939240" y="6056280"/>
              <a:ext cx="444240" cy="41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57160" y="613692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o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383840" y="6056280"/>
              <a:ext cx="444240" cy="41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828440" y="6056280"/>
              <a:ext cx="443880" cy="41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272680" y="6056280"/>
              <a:ext cx="444240" cy="41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357560" y="6136920"/>
              <a:ext cx="48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39240" y="6056280"/>
              <a:ext cx="1777680" cy="415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1828080" y="5143320"/>
              <a:ext cx="121860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1294560" y="5143320"/>
              <a:ext cx="137124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685040" y="4882320"/>
              <a:ext cx="444240" cy="415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672440" y="4947480"/>
              <a:ext cx="40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129640" y="4882320"/>
              <a:ext cx="444240" cy="4158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574240" y="4882320"/>
              <a:ext cx="443880" cy="4158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018480" y="4882320"/>
              <a:ext cx="444240" cy="4158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685040" y="4882320"/>
              <a:ext cx="1777680" cy="415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517200" y="4190760"/>
              <a:ext cx="443880" cy="4154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505320" y="42300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961440" y="4190760"/>
              <a:ext cx="444240" cy="41544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406040" y="4190760"/>
              <a:ext cx="444240" cy="4154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850280" y="4190760"/>
              <a:ext cx="444240" cy="41544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517200" y="4190760"/>
              <a:ext cx="1777680" cy="41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428280" y="5143320"/>
              <a:ext cx="15192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799520" y="5208480"/>
              <a:ext cx="91404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256720" y="5208480"/>
              <a:ext cx="236124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3351960" y="4425840"/>
              <a:ext cx="3045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037760" y="4425840"/>
              <a:ext cx="152352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334120" y="4230000"/>
              <a:ext cx="6256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o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553440" y="4883760"/>
              <a:ext cx="714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772400" y="6056280"/>
              <a:ext cx="714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ea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577-3E58-48B0-B512-1CDE0E5E56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äfix-B*-Bäume für Strings als Schlüs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-54360" y="609480"/>
            <a:ext cx="9303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lüssel in inneren Knoten sind nur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egweiser (Router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z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rtitionierung des Schlüsselrau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tt xi = max{s: s ist ein Schlüssel im Teilbaum ti} genügt ein (kürze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gweiser xi‘ mit si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xi‘&lt; x(i+1) für alle si in ti und alle s(i+1) in t(i+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 Wahl wäre xi‘ = kürzester String mit der o.a. Eigenscha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öherer Fanout, potentiell kleinere Baumhö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-720" y="251460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4325760"/>
            <a:ext cx="9144000" cy="2100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2573280"/>
            <a:ext cx="9144000" cy="17524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6320" y="5545080"/>
            <a:ext cx="533160" cy="5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20" y="562932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a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09480" y="5545080"/>
            <a:ext cx="533520" cy="5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43000" y="5553000"/>
            <a:ext cx="533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676520" y="5545080"/>
            <a:ext cx="533160" cy="5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09840" y="562932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rl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86000" y="5545080"/>
            <a:ext cx="533520" cy="5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210400" y="56214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rfu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819520" y="5545080"/>
            <a:ext cx="533160" cy="5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6320" y="5545080"/>
            <a:ext cx="2133360" cy="58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820600" y="562932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286000" y="5545080"/>
            <a:ext cx="2133720" cy="58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724280" y="553716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724280" y="562140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öl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257800" y="553716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791320" y="553716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324480" y="553716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181480" y="5621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in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724280" y="5537160"/>
            <a:ext cx="2133720" cy="58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143720" y="56293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716080" y="562140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z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581280" y="2871720"/>
            <a:ext cx="381240" cy="5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659040" y="295416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962520" y="2871720"/>
            <a:ext cx="685800" cy="5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648320" y="2871720"/>
            <a:ext cx="533160" cy="5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343400" y="2871720"/>
            <a:ext cx="1371600" cy="5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581280" y="2871720"/>
            <a:ext cx="2133720" cy="58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2362320" y="3328920"/>
            <a:ext cx="129528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114800" y="32004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725240" y="4648320"/>
            <a:ext cx="1416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äfix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*-Ba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48360" y="553716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934680" y="562140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481880" y="553716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8015400" y="5537160"/>
            <a:ext cx="53316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548560" y="553716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391520" y="5468760"/>
            <a:ext cx="82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ar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rüc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948360" y="5537160"/>
            <a:ext cx="2133720" cy="58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8078760" y="56214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626320" y="56214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l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52280" y="593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04920" y="593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066680" y="593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971800" y="593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124080" y="593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276720" y="593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447920" y="593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943600" y="59259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086600" y="59259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238880" y="59259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391520" y="59259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620120" y="59259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696080" y="59259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772400" y="59259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848720" y="59259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924680" y="59259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486400" y="59259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638680" y="59259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62120" y="593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914400" y="593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8229600" y="59259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8381880" y="59259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8839080" y="59259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514600" y="593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095880" y="59259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248520" y="59259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4761000" y="5925960"/>
            <a:ext cx="457200" cy="609480"/>
            <a:chOff x="4761000" y="5925960"/>
            <a:chExt cx="457200" cy="609480"/>
          </a:xfrm>
        </p:grpSpPr>
        <p:sp>
          <p:nvSpPr>
            <p:cNvPr id="1138" name=""/>
            <p:cNvSpPr/>
            <p:nvPr/>
          </p:nvSpPr>
          <p:spPr>
            <a:xfrm>
              <a:off x="4913640" y="59259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065920" y="59259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18200" y="59259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61000" y="59259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3276720" y="4782960"/>
            <a:ext cx="533160" cy="5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276720" y="4782960"/>
            <a:ext cx="71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ank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u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809880" y="4782960"/>
            <a:ext cx="533520" cy="5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343400" y="4782960"/>
            <a:ext cx="533520" cy="5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876920" y="4782960"/>
            <a:ext cx="533160" cy="5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810240" y="486720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276720" y="4782960"/>
            <a:ext cx="2133360" cy="58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038480" y="516420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91120" y="516420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505320" y="517212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352680" y="5545080"/>
            <a:ext cx="533520" cy="5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886200" y="5545080"/>
            <a:ext cx="533520" cy="5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295280" y="3868560"/>
            <a:ext cx="381240" cy="5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297080" y="3944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676520" y="3879720"/>
            <a:ext cx="304560" cy="5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981080" y="3886200"/>
            <a:ext cx="533520" cy="58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286000" y="3868560"/>
            <a:ext cx="1143000" cy="5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676520" y="3973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295280" y="3868560"/>
            <a:ext cx="2133720" cy="58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410080" y="3868560"/>
            <a:ext cx="533520" cy="5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488200" y="3962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791320" y="3868560"/>
            <a:ext cx="685800" cy="5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477120" y="3868560"/>
            <a:ext cx="533160" cy="5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095880" y="3868560"/>
            <a:ext cx="1447920" cy="5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410080" y="3868560"/>
            <a:ext cx="2133720" cy="58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609120" y="4325760"/>
            <a:ext cx="7621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752480" y="4267080"/>
            <a:ext cx="1067040" cy="12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133720" y="4191120"/>
            <a:ext cx="1143000" cy="59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562720" y="4325760"/>
            <a:ext cx="2286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867280" y="4267080"/>
            <a:ext cx="2133720" cy="12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057400" y="3639960"/>
            <a:ext cx="5105520" cy="0"/>
          </a:xfrm>
          <a:prstGeom prst="line">
            <a:avLst/>
          </a:prstGeom>
          <a:ln w="381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228600" y="4630680"/>
            <a:ext cx="8458200" cy="76320"/>
          </a:xfrm>
          <a:prstGeom prst="line">
            <a:avLst/>
          </a:prstGeom>
          <a:ln w="381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5937-05EB-452E-A48B-43361CC7EB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72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14.3 Wie Anfragen ausgeführt we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98080" y="1112760"/>
            <a:ext cx="837828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rne Repräsentation einer Anfrage bzw. eines Ausführungs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s Operatorbaum mit algebraischen Operatoren der Ar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able-S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ID-Zugrif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dex-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ort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urchschnitt, Vereinigung, Differ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ilter (Selek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ojektion für M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ojekten für Multim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DCC-26BE-4CD2-8CA2-3F428A6B45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72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sführungspläne (Operatorbäume): Beispiel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064280" y="1676520"/>
            <a:ext cx="274680" cy="439560"/>
          </a:xfrm>
          <a:prstGeom prst="downArrow">
            <a:avLst>
              <a:gd name="adj1" fmla="val 50000"/>
              <a:gd name="adj2" fmla="val 400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228600" y="2408400"/>
            <a:ext cx="8595360" cy="3886200"/>
            <a:chOff x="228600" y="2408400"/>
            <a:chExt cx="8595360" cy="3886200"/>
          </a:xfrm>
        </p:grpSpPr>
        <p:sp>
          <p:nvSpPr>
            <p:cNvPr id="1179" name=""/>
            <p:cNvSpPr/>
            <p:nvPr/>
          </p:nvSpPr>
          <p:spPr>
            <a:xfrm>
              <a:off x="5715000" y="5457960"/>
              <a:ext cx="1446120" cy="8046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853600" y="5603760"/>
              <a:ext cx="13831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dex Sc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n City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513480" y="4459320"/>
              <a:ext cx="1446120" cy="8049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721200" y="4751280"/>
              <a:ext cx="12794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ID Ac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315200" y="5457960"/>
              <a:ext cx="1446120" cy="8046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454520" y="5603760"/>
              <a:ext cx="13694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tch 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o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513480" y="3433680"/>
              <a:ext cx="1446120" cy="8049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788880" y="3726000"/>
              <a:ext cx="9702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ilte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202520" y="423864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6539040" y="5236920"/>
              <a:ext cx="62208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 flipV="1">
              <a:off x="7476840" y="5264280"/>
              <a:ext cx="58572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513480" y="2408400"/>
              <a:ext cx="1446120" cy="8064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720480" y="2701800"/>
              <a:ext cx="11224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j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202520" y="3214800"/>
              <a:ext cx="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28600" y="5514840"/>
              <a:ext cx="1495440" cy="7797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72600" y="5656320"/>
              <a:ext cx="13694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dex Sc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n Age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938240" y="5514840"/>
              <a:ext cx="1494000" cy="7797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081520" y="5656320"/>
              <a:ext cx="13831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dex Sc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n City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154160" y="4592520"/>
              <a:ext cx="1495440" cy="7797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368720" y="4734000"/>
              <a:ext cx="12628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ID 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s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577960" y="3813120"/>
              <a:ext cx="1495440" cy="7794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793960" y="4095720"/>
              <a:ext cx="12794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ID Ac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733920" y="5456160"/>
              <a:ext cx="1495440" cy="7794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810240" y="5608800"/>
              <a:ext cx="13694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tch 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o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941400" y="5301720"/>
              <a:ext cx="56844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 flipV="1">
              <a:off x="2150640" y="5372280"/>
              <a:ext cx="49860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2365200" y="4520880"/>
              <a:ext cx="568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789360" y="4521240"/>
              <a:ext cx="70632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577960" y="2819520"/>
              <a:ext cx="1495440" cy="7808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793240" y="3103560"/>
              <a:ext cx="11224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j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290760" y="360036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434520" y="1069920"/>
            <a:ext cx="450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lect Name, City, Zipcode, Stre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rom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ere Age &l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d City = "Austi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200400" y="1752480"/>
            <a:ext cx="274680" cy="439920"/>
          </a:xfrm>
          <a:prstGeom prst="downArrow">
            <a:avLst>
              <a:gd name="adj1" fmla="val 50000"/>
              <a:gd name="adj2" fmla="val 400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8A05-8207-41BC-8EDD-7D22CB606A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72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sführungspläne (Operatorbäume): Beispiel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064280" y="1676520"/>
            <a:ext cx="274680" cy="439560"/>
          </a:xfrm>
          <a:prstGeom prst="downArrow">
            <a:avLst>
              <a:gd name="adj1" fmla="val 50000"/>
              <a:gd name="adj2" fmla="val 400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34520" y="1069920"/>
            <a:ext cx="450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lect Name, City, Zipcode, Stre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rom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ere Age &l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d City = "Austi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200400" y="1752480"/>
            <a:ext cx="274680" cy="439920"/>
          </a:xfrm>
          <a:prstGeom prst="downArrow">
            <a:avLst>
              <a:gd name="adj1" fmla="val 50000"/>
              <a:gd name="adj2" fmla="val 400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03120" y="251460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Oracle8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-5760" y="3048120"/>
            <a:ext cx="4575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ACCESS BY ROWID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S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X RANGE SCAN Age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X RANGE SCAN City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505040" y="3048120"/>
            <a:ext cx="4642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ACCESS BY ROWID 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X RANGE SCAN City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1B10-EAC0-4156-8D73-461E5381E5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72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ry-Optimi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1000" y="1523880"/>
            <a:ext cx="473724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sted-Loop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rge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sh-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ruppierung mit Ag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sh-Gruppierung mit Ag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01560" y="4191120"/>
            <a:ext cx="861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Query-Optimier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neriert algebraisch äquivalente Ausführungsplä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ertet deren Ausführungskosten (insbesondere #Plattenzugriff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wählt den (vermutlich) besten Plan a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43520" y="990720"/>
            <a:ext cx="75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tere interne Operatoren als algorithmische Alternat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4B72-DF71-4EA6-BC79-90C59E28B2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sführungspläne (Operatorbäume): Beispiel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6720" y="685800"/>
            <a:ext cx="834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SELECT KNr, Name FROM Kunden K, Verkäufe V, Bücher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WHERE K.Ort = „Saarbrücken“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AND K.KNr = V.KNr AND V.ISBN = B.IS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AND B.Kategorie = „Politik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289080" y="1981080"/>
            <a:ext cx="8567640" cy="4600800"/>
            <a:chOff x="289080" y="1981080"/>
            <a:chExt cx="8567640" cy="4600800"/>
          </a:xfrm>
        </p:grpSpPr>
        <p:grpSp>
          <p:nvGrpSpPr>
            <p:cNvPr id="1226" name=""/>
            <p:cNvGrpSpPr/>
            <p:nvPr/>
          </p:nvGrpSpPr>
          <p:grpSpPr>
            <a:xfrm>
              <a:off x="1828800" y="1981080"/>
              <a:ext cx="5638680" cy="3202920"/>
              <a:chOff x="1828800" y="1981080"/>
              <a:chExt cx="5638680" cy="3202920"/>
            </a:xfrm>
          </p:grpSpPr>
          <p:sp>
            <p:nvSpPr>
              <p:cNvPr id="1227" name=""/>
              <p:cNvSpPr/>
              <p:nvPr/>
            </p:nvSpPr>
            <p:spPr>
              <a:xfrm>
                <a:off x="1828800" y="3809880"/>
                <a:ext cx="2133720" cy="137160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666880" y="1981080"/>
                <a:ext cx="4800600" cy="205740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173280" y="2362320"/>
                <a:ext cx="68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Jo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515680" y="4724280"/>
                <a:ext cx="68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Jo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1" name=""/>
            <p:cNvSpPr/>
            <p:nvPr/>
          </p:nvSpPr>
          <p:spPr>
            <a:xfrm>
              <a:off x="390600" y="5802480"/>
              <a:ext cx="1495440" cy="7794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33520" y="5924520"/>
              <a:ext cx="131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ble Sc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üc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367240" y="5773680"/>
              <a:ext cx="1494000" cy="7794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407560" y="5867280"/>
              <a:ext cx="142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dex Sc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 OrtInd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89080" y="4803840"/>
              <a:ext cx="1495440" cy="7794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2880" y="4857840"/>
              <a:ext cx="152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ategorie=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162920" y="5745240"/>
              <a:ext cx="1676160" cy="7794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237440" y="5848200"/>
              <a:ext cx="16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etch Kund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o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989520" y="2001960"/>
              <a:ext cx="1495440" cy="7808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191480" y="2266920"/>
              <a:ext cx="8452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r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066680" y="556272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262560" y="4746600"/>
              <a:ext cx="1495440" cy="7794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24840" y="4952880"/>
              <a:ext cx="14043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ID Ac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6172200" y="5454360"/>
              <a:ext cx="44604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162920" y="5486400"/>
              <a:ext cx="685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057480" y="5726160"/>
              <a:ext cx="1495440" cy="7794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200400" y="5848200"/>
              <a:ext cx="131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ble Sc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erkäuf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066760" y="3973680"/>
              <a:ext cx="1495440" cy="7794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210400" y="4095720"/>
              <a:ext cx="88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s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1447920" y="464796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276720" y="4648320"/>
              <a:ext cx="5331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971800" y="2971800"/>
              <a:ext cx="1495440" cy="7794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10080" y="3048120"/>
              <a:ext cx="1495440" cy="7794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276360" y="3105000"/>
              <a:ext cx="95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r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y KN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14640" y="3105000"/>
              <a:ext cx="95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r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y KN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3962520" y="27432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029200" y="2743200"/>
              <a:ext cx="6858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324480" y="3809880"/>
              <a:ext cx="6098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3048120" y="37339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0" name=""/>
          <p:cNvSpPr/>
          <p:nvPr/>
        </p:nvSpPr>
        <p:spPr>
          <a:xfrm>
            <a:off x="685800" y="2057400"/>
            <a:ext cx="1600200" cy="533520"/>
          </a:xfrm>
          <a:prstGeom prst="rightArrow">
            <a:avLst>
              <a:gd name="adj1" fmla="val 50000"/>
              <a:gd name="adj2" fmla="val 749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363400" y="2057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.B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-2880" y="259092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Query-Optimi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CE85-23A3-4591-9E5A-760F502F6BB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sführungspläne (Operatorbäume): Beispiel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6720" y="685800"/>
            <a:ext cx="834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SELECT KNr, Name FROM Kunden K, Verkäufe V, Bücher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WHERE K.Ort = „Saarbrücken“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AND K.KNr = V.KNr AND V.ISBN = B.IS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AND B.Kategorie = „Politik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39200" y="2327400"/>
            <a:ext cx="38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räsentation in Oracle8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56480" y="2803680"/>
            <a:ext cx="6616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 JO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D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ACCES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ü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ACCES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käu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ACCES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ROWI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X RANGE SCA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46C-2A59-4846-A819-54C8AD6EB87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14.1 Wie Daten gespeichert wer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0" y="609480"/>
            <a:ext cx="8944920" cy="5613840"/>
            <a:chOff x="0" y="609480"/>
            <a:chExt cx="8944920" cy="5613840"/>
          </a:xfrm>
        </p:grpSpPr>
        <p:sp>
          <p:nvSpPr>
            <p:cNvPr id="157" name=""/>
            <p:cNvSpPr/>
            <p:nvPr/>
          </p:nvSpPr>
          <p:spPr>
            <a:xfrm>
              <a:off x="0" y="522252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63160" y="3818520"/>
              <a:ext cx="2049480" cy="1872000"/>
            </a:xfrm>
            <a:prstGeom prst="can">
              <a:avLst>
                <a:gd name="adj" fmla="val 1686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4664160" y="3619080"/>
              <a:ext cx="447120" cy="2049480"/>
            </a:xfrm>
            <a:prstGeom prst="flowChartOnlineStorag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65240" y="3818520"/>
              <a:ext cx="2049480" cy="1872000"/>
            </a:xfrm>
            <a:prstGeom prst="can">
              <a:avLst>
                <a:gd name="adj" fmla="val 1686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39920" y="3818520"/>
              <a:ext cx="2049840" cy="1872000"/>
            </a:xfrm>
            <a:prstGeom prst="can">
              <a:avLst>
                <a:gd name="adj" fmla="val 16861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78520" y="4487400"/>
              <a:ext cx="0" cy="33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72720" y="4487400"/>
              <a:ext cx="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66920" y="4487400"/>
              <a:ext cx="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61120" y="4487400"/>
              <a:ext cx="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76480" y="4487400"/>
              <a:ext cx="0" cy="33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200000">
              <a:off x="4664520" y="4287240"/>
              <a:ext cx="446760" cy="2049480"/>
            </a:xfrm>
            <a:prstGeom prst="flowChartOnlineStorag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78520" y="5155560"/>
              <a:ext cx="0" cy="33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720" y="5155560"/>
              <a:ext cx="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66920" y="5155560"/>
              <a:ext cx="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61120" y="5155560"/>
              <a:ext cx="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76480" y="5155560"/>
              <a:ext cx="0" cy="33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6200000">
              <a:off x="7266240" y="4020120"/>
              <a:ext cx="447120" cy="2049480"/>
            </a:xfrm>
            <a:prstGeom prst="flowChartOnlineStorag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0240" y="4888440"/>
              <a:ext cx="0" cy="33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74800" y="4888440"/>
              <a:ext cx="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69000" y="4888440"/>
              <a:ext cx="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62840" y="4888440"/>
              <a:ext cx="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78560" y="4888440"/>
              <a:ext cx="0" cy="33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6200000">
              <a:off x="2141280" y="4153680"/>
              <a:ext cx="447120" cy="2049840"/>
            </a:xfrm>
            <a:prstGeom prst="flowChartOnlineStorag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55640" y="5022000"/>
              <a:ext cx="0" cy="33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49480" y="5022000"/>
              <a:ext cx="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44040" y="5022000"/>
              <a:ext cx="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38240" y="5022000"/>
              <a:ext cx="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53600" y="5022000"/>
              <a:ext cx="0" cy="33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6200000">
              <a:off x="2141280" y="3484440"/>
              <a:ext cx="446760" cy="2049840"/>
            </a:xfrm>
            <a:prstGeom prst="flowChartOnlineStorag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49480" y="4353480"/>
              <a:ext cx="473040" cy="401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2128680" y="4554000"/>
              <a:ext cx="236160" cy="66960"/>
              <a:chOff x="2128680" y="4554000"/>
              <a:chExt cx="236160" cy="66960"/>
            </a:xfrm>
          </p:grpSpPr>
          <p:sp>
            <p:nvSpPr>
              <p:cNvPr id="188" name=""/>
              <p:cNvSpPr/>
              <p:nvPr/>
            </p:nvSpPr>
            <p:spPr>
              <a:xfrm>
                <a:off x="2128680" y="4554000"/>
                <a:ext cx="0" cy="6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207520" y="4554000"/>
                <a:ext cx="0" cy="6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86000" y="4554000"/>
                <a:ext cx="0" cy="6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64840" y="4554000"/>
                <a:ext cx="0" cy="6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92" name=""/>
            <p:cNvCxnSpPr>
              <a:stCxn id="188" idx="0"/>
              <a:endCxn id="179" idx="0"/>
            </p:cNvCxnSpPr>
            <p:nvPr/>
          </p:nvCxnSpPr>
          <p:spPr>
            <a:xfrm rot="5400000">
              <a:off x="1454400" y="4505760"/>
              <a:ext cx="559080" cy="789120"/>
            </a:xfrm>
            <a:prstGeom prst="curvedConnector5">
              <a:avLst>
                <a:gd name="adj1" fmla="val 29896"/>
                <a:gd name="adj2" fmla="val 64993"/>
                <a:gd name="adj3" fmla="val 29896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89" idx="0"/>
              <a:endCxn id="167" idx="0"/>
            </p:cNvCxnSpPr>
            <p:nvPr/>
          </p:nvCxnSpPr>
          <p:spPr>
            <a:xfrm flipH="1" rot="16200000">
              <a:off x="2688120" y="4138920"/>
              <a:ext cx="693000" cy="165636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90" idx="0"/>
              <a:endCxn id="159" idx="0"/>
            </p:cNvCxnSpPr>
            <p:nvPr/>
          </p:nvCxnSpPr>
          <p:spPr>
            <a:xfrm flipH="1" rot="16200000">
              <a:off x="3029040" y="3809520"/>
              <a:ext cx="91080" cy="1577520"/>
            </a:xfrm>
            <a:prstGeom prst="curvedConnector5">
              <a:avLst>
                <a:gd name="adj1" fmla="val -221428"/>
                <a:gd name="adj2" fmla="val 24994"/>
                <a:gd name="adj3" fmla="val -221428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>
              <a:stCxn id="191" idx="0"/>
              <a:endCxn id="173" idx="0"/>
            </p:cNvCxnSpPr>
            <p:nvPr/>
          </p:nvCxnSpPr>
          <p:spPr>
            <a:xfrm flipH="1" rot="16200000">
              <a:off x="4202640" y="2783160"/>
              <a:ext cx="425520" cy="410040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6" name=""/>
            <p:cNvSpPr/>
            <p:nvPr/>
          </p:nvSpPr>
          <p:spPr>
            <a:xfrm>
              <a:off x="315360" y="4152600"/>
              <a:ext cx="84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t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03400" y="4420440"/>
              <a:ext cx="946080" cy="133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44040" y="743040"/>
              <a:ext cx="4808880" cy="26744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2522880" y="3417120"/>
              <a:ext cx="2049840" cy="1069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4966920" y="3417120"/>
              <a:ext cx="2207520" cy="1069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62160" y="1946520"/>
              <a:ext cx="111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44040" y="743040"/>
              <a:ext cx="1576440" cy="401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45120" y="810000"/>
              <a:ext cx="14760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ge H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80240" y="3016080"/>
              <a:ext cx="473040" cy="401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88080" y="3016080"/>
              <a:ext cx="473040" cy="4010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61120" y="3016080"/>
              <a:ext cx="473040" cy="4010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34160" y="3016080"/>
              <a:ext cx="473040" cy="4010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7200" y="3016080"/>
              <a:ext cx="473040" cy="4010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51480" y="3083040"/>
              <a:ext cx="12506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lot Arr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20840" y="743040"/>
              <a:ext cx="3074760" cy="40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51560" y="743040"/>
              <a:ext cx="0" cy="401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24600" y="743040"/>
              <a:ext cx="0" cy="401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86040" y="743040"/>
              <a:ext cx="0" cy="401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20480" y="810000"/>
              <a:ext cx="5907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653360" y="810000"/>
              <a:ext cx="4366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27480" y="810000"/>
              <a:ext cx="12492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s Veg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45520" y="6094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4040" y="1278000"/>
              <a:ext cx="2443680" cy="40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74760" y="1278000"/>
              <a:ext cx="0" cy="401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47800" y="1278000"/>
              <a:ext cx="0" cy="401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15040" y="1278000"/>
              <a:ext cx="0" cy="401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446200" y="1344600"/>
              <a:ext cx="563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76920" y="1344600"/>
              <a:ext cx="4366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0320" y="1344600"/>
              <a:ext cx="8712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att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415040" y="1274400"/>
              <a:ext cx="50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20840" y="1679040"/>
              <a:ext cx="3232440" cy="40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51560" y="1679040"/>
              <a:ext cx="1800" cy="401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24600" y="1679040"/>
              <a:ext cx="1800" cy="401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2560" y="1679040"/>
              <a:ext cx="1440" cy="401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20120" y="1745640"/>
              <a:ext cx="5205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o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53360" y="1745640"/>
              <a:ext cx="4366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26040" y="1745640"/>
              <a:ext cx="14637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an Anton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1760" y="1672560"/>
              <a:ext cx="50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34160" y="1278000"/>
              <a:ext cx="551880" cy="40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96640" y="2683440"/>
              <a:ext cx="12063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ree 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24600" y="3150000"/>
              <a:ext cx="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70680" y="3150000"/>
              <a:ext cx="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16760" y="3150000"/>
              <a:ext cx="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43720" y="3150000"/>
              <a:ext cx="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70680" y="1478520"/>
              <a:ext cx="15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1" name=""/>
            <p:cNvCxnSpPr>
              <a:stCxn id="240" idx="0"/>
            </p:cNvCxnSpPr>
            <p:nvPr/>
          </p:nvCxnSpPr>
          <p:spPr>
            <a:xfrm flipH="1" flipV="1" rot="5400000">
              <a:off x="6973920" y="331560"/>
              <a:ext cx="401760" cy="1892880"/>
            </a:xfrm>
            <a:prstGeom prst="curvedConnector5">
              <a:avLst>
                <a:gd name="adj1" fmla="val -28789"/>
                <a:gd name="adj2" fmla="val 34886"/>
                <a:gd name="adj3" fmla="val -28789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38" idx="0"/>
              <a:endCxn id="214" idx="2"/>
            </p:cNvCxnSpPr>
            <p:nvPr/>
          </p:nvCxnSpPr>
          <p:spPr>
            <a:xfrm flipV="1" rot="16200000">
              <a:off x="4649760" y="782280"/>
              <a:ext cx="2045160" cy="2689200"/>
            </a:xfrm>
            <a:prstGeom prst="curvedConnector5">
              <a:avLst>
                <a:gd name="adj1" fmla="val 36021"/>
                <a:gd name="adj2" fmla="val 49993"/>
                <a:gd name="adj3" fmla="val 3602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3" name=""/>
            <p:cNvCxnSpPr>
              <a:stCxn id="239" idx="0"/>
              <a:endCxn id="222" idx="2"/>
            </p:cNvCxnSpPr>
            <p:nvPr/>
          </p:nvCxnSpPr>
          <p:spPr>
            <a:xfrm flipV="1" rot="16200000">
              <a:off x="3884400" y="491040"/>
              <a:ext cx="1510560" cy="3807720"/>
            </a:xfrm>
            <a:prstGeom prst="curvedConnector5">
              <a:avLst>
                <a:gd name="adj1" fmla="val 49988"/>
                <a:gd name="adj2" fmla="val 50000"/>
                <a:gd name="adj3" fmla="val 49988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4" name=""/>
            <p:cNvCxnSpPr>
              <a:stCxn id="237" idx="0"/>
              <a:endCxn id="234" idx="1"/>
            </p:cNvCxnSpPr>
            <p:nvPr/>
          </p:nvCxnSpPr>
          <p:spPr>
            <a:xfrm flipV="1" rot="16200000">
              <a:off x="5116320" y="2195280"/>
              <a:ext cx="1671840" cy="237240"/>
            </a:xfrm>
            <a:prstGeom prst="curvedConnector5">
              <a:avLst>
                <a:gd name="adj1" fmla="val 43980"/>
                <a:gd name="adj2" fmla="val 100000"/>
                <a:gd name="adj3" fmla="val 4398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5" name=""/>
            <p:cNvCxnSpPr>
              <a:stCxn id="236" idx="0"/>
              <a:endCxn id="230" idx="2"/>
            </p:cNvCxnSpPr>
            <p:nvPr/>
          </p:nvCxnSpPr>
          <p:spPr>
            <a:xfrm flipV="1" rot="16200000">
              <a:off x="4153320" y="2178360"/>
              <a:ext cx="1109160" cy="833040"/>
            </a:xfrm>
            <a:prstGeom prst="curvedConnector5">
              <a:avLst>
                <a:gd name="adj1" fmla="val 50000"/>
                <a:gd name="adj2" fmla="val 49978"/>
                <a:gd name="adj3" fmla="val 5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6" name=""/>
            <p:cNvSpPr/>
            <p:nvPr/>
          </p:nvSpPr>
          <p:spPr>
            <a:xfrm>
              <a:off x="7628760" y="1144080"/>
              <a:ext cx="131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orwar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61120" y="3016080"/>
              <a:ext cx="4518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-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76200" y="5824440"/>
              <a:ext cx="94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t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86000" y="5423040"/>
              <a:ext cx="1024920" cy="468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863160" y="5556960"/>
              <a:ext cx="866880" cy="334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020480" y="5289480"/>
              <a:ext cx="3390120" cy="735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626640" y="4821120"/>
              <a:ext cx="866880" cy="1069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6FB4-74D2-4C35-A31D-436A55B5AF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Charakteristika moderner Magnetpla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09480" y="890640"/>
            <a:ext cx="8296200" cy="5783760"/>
            <a:chOff x="609480" y="890640"/>
            <a:chExt cx="8296200" cy="5783760"/>
          </a:xfrm>
        </p:grpSpPr>
        <p:sp>
          <p:nvSpPr>
            <p:cNvPr id="255" name=""/>
            <p:cNvSpPr/>
            <p:nvPr/>
          </p:nvSpPr>
          <p:spPr>
            <a:xfrm>
              <a:off x="5586120" y="1638360"/>
              <a:ext cx="152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. 4000 D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9480" y="912960"/>
              <a:ext cx="8296200" cy="35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9480" y="1263600"/>
              <a:ext cx="8296200" cy="352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9480" y="1616040"/>
              <a:ext cx="8296200" cy="35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9480" y="1967040"/>
              <a:ext cx="8296200" cy="352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9480" y="2319480"/>
              <a:ext cx="8296200" cy="35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9480" y="2670120"/>
              <a:ext cx="8296200" cy="352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480" y="3022560"/>
              <a:ext cx="8296200" cy="352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9480" y="3375000"/>
              <a:ext cx="8296200" cy="35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480" y="3726000"/>
              <a:ext cx="8296200" cy="352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9480" y="4078440"/>
              <a:ext cx="8296200" cy="35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9480" y="4429080"/>
              <a:ext cx="8296200" cy="352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9480" y="4781520"/>
              <a:ext cx="8296200" cy="35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90360" y="912960"/>
              <a:ext cx="0" cy="5716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3800" y="890640"/>
              <a:ext cx="152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urchmes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4520" y="126360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eicherkapazitä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6320" y="161604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6320" y="1967040"/>
              <a:ext cx="81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röß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06680" y="231948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wich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3080" y="2670120"/>
              <a:ext cx="199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ergieverbrau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2360" y="3022560"/>
              <a:ext cx="266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uverlässigkeit (MTTF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3080" y="3375000"/>
              <a:ext cx="22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zahl Oberfläch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4160" y="3726000"/>
              <a:ext cx="185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zahl Zylin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04520" y="4078440"/>
              <a:ext cx="158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urkapazitä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5240" y="4429080"/>
              <a:ext cx="152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tationsze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9120" y="4781520"/>
              <a:ext cx="346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ittlere Armpositionierungsze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87560" y="912960"/>
              <a:ext cx="98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5 Zo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86840" y="1285920"/>
              <a:ext cx="145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8.2 GBy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83240" y="1989000"/>
              <a:ext cx="206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. 14 x 10 x 4 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86480" y="2341440"/>
              <a:ext cx="117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. 1.2 k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87200" y="2692440"/>
              <a:ext cx="99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5 Wat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78200" y="3044880"/>
              <a:ext cx="327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0 000 Stunden ( &gt; 75 Jahr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87560" y="33955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86840" y="37479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96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84320" y="4098960"/>
              <a:ext cx="207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7 bis 128 KBy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81440" y="4451400"/>
              <a:ext cx="225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 ms (10000 U/mi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86840" y="4802040"/>
              <a:ext cx="86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.7 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9480" y="5900760"/>
              <a:ext cx="8296200" cy="352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9480" y="6253200"/>
              <a:ext cx="8296200" cy="352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0920" y="5900760"/>
              <a:ext cx="348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Random I/O auf 1 Block a 4 K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9480" y="6253200"/>
              <a:ext cx="394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Sequential I/O auf 30 Blöcke a 4 K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87200" y="5923080"/>
              <a:ext cx="102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. 9 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86120" y="6275520"/>
              <a:ext cx="115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. 12 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5116680"/>
              <a:ext cx="829620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9480" y="5468760"/>
              <a:ext cx="8296200" cy="35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9120" y="5116680"/>
              <a:ext cx="363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inimale Armpositionierungsze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2720" y="5468760"/>
              <a:ext cx="195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Übertragungs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86840" y="5138640"/>
              <a:ext cx="86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6 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82520" y="5489640"/>
              <a:ext cx="266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.5 bis 21.3 MBytes / 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3680" y="457200"/>
            <a:ext cx="8673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(z.B. Seagate Cheetah 18 mit Ultra-SCSI- oder Fibre-Channel-Schnittstel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3A87-224C-4E6C-8BFB-5E04D4C672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istungsparameter einer Magnetplat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57400" y="2362320"/>
            <a:ext cx="4267080" cy="2057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62320" y="2590920"/>
            <a:ext cx="3657600" cy="160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2743200"/>
            <a:ext cx="2971800" cy="1143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8120" y="2971800"/>
            <a:ext cx="220968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3124080"/>
            <a:ext cx="106704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91320" y="4343400"/>
            <a:ext cx="685800" cy="914400"/>
          </a:xfrm>
          <a:custGeom>
            <a:avLst/>
            <a:gdLst>
              <a:gd name="textAreaLeft" fmla="*/ 91800 w 685800"/>
              <a:gd name="textAreaRight" fmla="*/ 594000 w 68580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4720" y="220968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: #cy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86200" y="3276720"/>
            <a:ext cx="380880" cy="152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20611200">
            <a:off x="4800240" y="3657600"/>
            <a:ext cx="68580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26480" y="4495680"/>
            <a:ext cx="25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: rotatio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2440" y="5867280"/>
            <a:ext cx="2090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al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581280" y="5486400"/>
                <a:ext cx="5968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6858000" y="5486400"/>
                <a:ext cx="17272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ans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6855840" y="579132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50920" y="295272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transfer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78560" y="2057400"/>
            <a:ext cx="229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rack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553080" y="2666880"/>
                <a:ext cx="18795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455040" y="579132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 seek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99960" y="4508640"/>
                <a:ext cx="22608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e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see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33520" y="4952880"/>
                <a:ext cx="23367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1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z</m:t>
                        </m:r>
                      </m:e>
                    </m:rad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if </m:t>
                    </m:r>
                    <m:r>
                      <m:t xml:space="preserve">z</m:t>
                    </m:r>
                    <m:r>
                      <m:t xml:space="preserve">≤</m:t>
                    </m:r>
                    <m:r>
                      <m:t xml:space="preserve">c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95360" y="5334120"/>
                <a:ext cx="2514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3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 otherwi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304920" y="495288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71600" y="2743200"/>
            <a:ext cx="228600" cy="1523880"/>
          </a:xfrm>
          <a:prstGeom prst="upDownArrow">
            <a:avLst>
              <a:gd name="adj1" fmla="val 50000"/>
              <a:gd name="adj2" fmla="val 132706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333760" y="2286000"/>
            <a:ext cx="1143000" cy="457200"/>
          </a:xfrm>
          <a:prstGeom prst="line">
            <a:avLst/>
          </a:prstGeom>
          <a:ln w="3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34120" y="3733920"/>
            <a:ext cx="1143000" cy="152280"/>
          </a:xfrm>
          <a:prstGeom prst="line">
            <a:avLst/>
          </a:prstGeom>
          <a:ln w="3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628320" y="3657600"/>
            <a:ext cx="1978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: reques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B7D9-7805-46FF-9D89-46D3151038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Charakteristika von Speicherhierarch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1600200" y="1447560"/>
            <a:ext cx="4572000" cy="3504960"/>
          </a:xfrm>
          <a:custGeom>
            <a:avLst/>
            <a:gdLst>
              <a:gd name="textAreaLeft" fmla="*/ 1353240 w 4572000"/>
              <a:gd name="textAreaRight" fmla="*/ 3218760 w 4572000"/>
              <a:gd name="textAreaTop" fmla="*/ 1037520 h 3504960"/>
              <a:gd name="textAreaBottom" fmla="*/ 2467440 h 35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240" y="21600"/>
                </a:lnTo>
                <a:lnTo>
                  <a:pt x="836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9144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paz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9144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schwindig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001360" y="9144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057400" y="41148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32767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89548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77440" y="167652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-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2640" y="25146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upt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54160" y="3429000"/>
            <a:ext cx="199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kundär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agnetplat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20520" y="4267080"/>
            <a:ext cx="415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ertiärspei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Bänder, Optische Medien, Jukebox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144792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400800" y="144756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924680" y="144756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-360" y="1600200"/>
            <a:ext cx="13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KBytes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 M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-1080" y="2514600"/>
            <a:ext cx="14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 MBytes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 G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-1440" y="342900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-40 G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 Pla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-2880" y="419112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500 G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ro Juke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75320" y="167652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-30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74600" y="259092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-100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75680" y="350532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10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76040" y="4267080"/>
            <a:ext cx="9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10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951680" y="1676520"/>
            <a:ext cx="10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D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51680" y="259092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D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951680" y="350532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5 D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951680" y="426708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1 D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 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13D5-0CF0-4AB7-87E7-F89BED2F19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14.2 Wie auf Daten effizient zugegriffen wird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(Indexstruktur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3760" y="1219320"/>
            <a:ext cx="54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REATE [UNIQUE] INDEX index-n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N table (column, {, column ...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71160" y="5029200"/>
            <a:ext cx="750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che Indexstrukturen für welche Attributkombination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oblem des physischen Datenbankentwurf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DBA oder „Index Wizard“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1920" y="2133720"/>
            <a:ext cx="85492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r Beschleunigung v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Exact-Match-Selektion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 A1=wert1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2=wert2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Ak=wer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.B. City = 'Miami'   oder   City = 'Paris'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 = 'Texas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eichs-Selektione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1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1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k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.B. 21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   oder   21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lara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 0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äfix-Match-Selektion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1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1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2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2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2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j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j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j (mit j &lt; 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.B. 21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 bei einem Index über Age, Salar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42C4-569B-47BE-9DDA-630C7F5F04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näre Suchbäume (für Hauptspeich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5160" y="838080"/>
            <a:ext cx="85932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lüssel (mit den ihnen zugeordneten Dat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ilden die Knoten eines binären Ba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der Invaria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jeden Knoten t mit Schlüssel t.key und alle Knoten l im li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ilbaum von t, t.left, und alle Knoten r im rechten Teilbaum vo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ilt: l.key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t.key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r.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3480" y="5486400"/>
            <a:ext cx="6610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orst-Case-Suchzeit für n Schlüssel: O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geeigneten Rebalancierungsalgorith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AVL-Bäume, Rot-Schwarz-Bäume, usw.): O(log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6280" y="3124080"/>
            <a:ext cx="84805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uchen eines Schlüssels 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versieren des Pfades von der Wurzel bis zu k bzw. einem Bl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fügen eines Schlüssels 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uchen von k und Anfügen eines neuen Blat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öschen eines Schlüssel 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setzen von k durch das „rechteste“ Blatt links vo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90A9-5D53-4D48-98C6-D2A89ABC26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ispiel für einen binären Suchba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6120" y="914400"/>
            <a:ext cx="90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don, Paris, Madrid, Kopenhagen, Lissabon, Zürich, Frankfurt, Wi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sterdam, Flor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49560" y="19051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d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4840" y="2743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2360" y="3733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4960" y="27432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penh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20240" y="37339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sa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72560" y="3733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ü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9840" y="37339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kf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39040" y="4724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-360" y="47242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sterd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248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r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438280" y="236232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05320" y="23623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1523520" y="32004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320040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5181480" y="312408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91320" y="31240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85800" y="41148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5105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095880" y="41911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A19-903F-47F0-91D4-1C4C8FD576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4T12:25:44Z</dcterms:created>
  <dc:creator>ESCOM Edition</dc:creator>
  <dc:description/>
  <dc:language>en-US</dc:language>
  <cp:lastModifiedBy>weikum</cp:lastModifiedBy>
  <dcterms:modified xsi:type="dcterms:W3CDTF">2004-06-19T14:33:35Z</dcterms:modified>
  <cp:revision>240</cp:revision>
  <dc:subject/>
  <dc:title>Kein Folientitel</dc:title>
</cp:coreProperties>
</file>